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8.jpeg" ContentType="image/jpeg"/>
  <Override PartName="/ppt/media/image73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1.png" ContentType="image/png"/>
  <Override PartName="/ppt/media/image37.jpeg" ContentType="image/jpeg"/>
  <Override PartName="/ppt/media/image36.png" ContentType="image/png"/>
  <Override PartName="/ppt/media/image9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19.jpeg" ContentType="image/jpeg"/>
  <Override PartName="/ppt/media/image21.jpeg" ContentType="image/jpeg"/>
  <Override PartName="/ppt/media/image59.png" ContentType="image/png"/>
  <Override PartName="/ppt/media/image24.jpeg" ContentType="image/jpeg"/>
  <Override PartName="/ppt/media/image26.jpeg" ContentType="image/jpeg"/>
  <Override PartName="/ppt/media/image42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15.jpeg" ContentType="image/jpeg"/>
  <Override PartName="/ppt/media/image64.png" ContentType="image/png"/>
  <Override PartName="/ppt/media/image78.png" ContentType="image/png"/>
  <Override PartName="/ppt/media/image49.png" ContentType="image/png"/>
  <Override PartName="/ppt/media/image65.jpeg" ContentType="image/jpeg"/>
  <Override PartName="/ppt/media/image23.jpeg" ContentType="image/jpeg"/>
  <Override PartName="/ppt/media/image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16.jpeg" ContentType="image/jpeg"/>
  <Override PartName="/ppt/media/image61.jpeg" ContentType="image/jpeg"/>
  <Override PartName="/ppt/media/image74.png" ContentType="image/png"/>
  <Override PartName="/ppt/media/image69.png" ContentType="image/png"/>
  <Override PartName="/ppt/media/image25.jpeg" ContentType="image/jpeg"/>
  <Override PartName="/ppt/media/image2.png" ContentType="image/png"/>
  <Override PartName="/ppt/media/image18.jpeg" ContentType="image/jpeg"/>
  <Override PartName="/ppt/media/image79.jpeg" ContentType="image/jpeg"/>
  <Override PartName="/ppt/media/image62.jpeg" ContentType="image/jpeg"/>
  <Override PartName="/ppt/media/image70.png" ContentType="image/png"/>
  <Override PartName="/ppt/media/image68.png" ContentType="image/png"/>
  <Override PartName="/ppt/media/image1.jpeg" ContentType="image/jpeg"/>
  <Override PartName="/ppt/media/image47.png" ContentType="image/png"/>
  <Override PartName="/ppt/media/image75.png" ContentType="image/png"/>
  <Override PartName="/ppt/media/image22.jpeg" ContentType="image/jpeg"/>
  <Override PartName="/ppt/media/image67.png" ContentType="image/png"/>
  <Override PartName="/ppt/media/image63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4.png" ContentType="image/png"/>
  <Override PartName="/ppt/media/image7.jpeg" ContentType="image/jpeg"/>
  <Override PartName="/ppt/media/image4.png" ContentType="image/png"/>
  <Override PartName="/ppt/media/image13.jpeg" ContentType="image/jpeg"/>
  <Override PartName="/ppt/media/image44.png" ContentType="image/png"/>
  <Override PartName="/ppt/media/image52.png" ContentType="image/png"/>
  <Override PartName="/ppt/media/image10.jpeg" ContentType="image/jpeg"/>
  <Override PartName="/ppt/media/image27.jpeg" ContentType="image/jpeg"/>
  <Override PartName="/ppt/media/image14.jpeg" ContentType="image/jpeg"/>
  <Override PartName="/ppt/media/image54.png" ContentType="image/png"/>
  <Override PartName="/ppt/media/image48.png" ContentType="image/png"/>
  <Override PartName="/ppt/media/image11.jpeg" ContentType="image/jpeg"/>
  <Override PartName="/ppt/media/image28.jpeg" ContentType="image/jpeg"/>
  <Override PartName="/ppt/media/image38.jpeg" ContentType="image/jpeg"/>
  <Override PartName="/ppt/media/image72.png" ContentType="image/png"/>
  <Override PartName="/ppt/media/image12.jpeg" ContentType="image/jpeg"/>
  <Override PartName="/ppt/media/image29.jpeg" ContentType="image/jpeg"/>
  <Override PartName="/ppt/media/image39.jpeg" ContentType="image/jpeg"/>
  <Override PartName="/ppt/media/image5.png" ContentType="image/png"/>
  <Override PartName="/ppt/media/image3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6BB-978D-4B60-88F1-13A54510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780-D899-472C-BD6F-C050ED62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68B-FEED-47EB-BD26-D1BF23CD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C3C-325A-4E7F-8924-3236C7E6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711-06C1-40A4-846D-EF076576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F29-AF0A-482F-82E0-FA190A3A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ABF-8D76-4F6D-A83C-958000B7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E63-4331-4D42-AC28-4499E903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060-7CE2-4665-907B-EA869307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5E2-D92E-4C82-9922-042E11DE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8DC-1972-4954-B84D-CB30438F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03D-4E98-45BC-8C76-9379ADD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2300-FA9E-4599-9911-AFCF6A882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png"/><Relationship Id="rId3" Type="http://schemas.openxmlformats.org/officeDocument/2006/relationships/image" Target="../media/image71.png"/><Relationship Id="rId4" Type="http://schemas.openxmlformats.org/officeDocument/2006/relationships/image" Target="../media/image71.png"/><Relationship Id="rId5" Type="http://schemas.openxmlformats.org/officeDocument/2006/relationships/image" Target="../media/image71.png"/><Relationship Id="rId6" Type="http://schemas.openxmlformats.org/officeDocument/2006/relationships/image" Target="../media/image71.png"/><Relationship Id="rId7" Type="http://schemas.openxmlformats.org/officeDocument/2006/relationships/image" Target="../media/image71.png"/><Relationship Id="rId8" Type="http://schemas.openxmlformats.org/officeDocument/2006/relationships/image" Target="../media/image71.png"/><Relationship Id="rId9" Type="http://schemas.openxmlformats.org/officeDocument/2006/relationships/image" Target="../media/image71.png"/><Relationship Id="rId10" Type="http://schemas.openxmlformats.org/officeDocument/2006/relationships/image" Target="../media/image63.png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3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pedsovet.su/load/321-1-0-34648" TargetMode="External"/><Relationship Id="rId4" Type="http://schemas.openxmlformats.org/officeDocument/2006/relationships/hyperlink" Target="http://pedsovet.su/load/321-1-0-34648" TargetMode="External"/><Relationship Id="rId5" Type="http://schemas.openxmlformats.org/officeDocument/2006/relationships/hyperlink" Target="http://pedsovet.su/load/321-1-0-34648" TargetMode="External"/><Relationship Id="rId6" Type="http://schemas.openxmlformats.org/officeDocument/2006/relationships/hyperlink" Target="http://pedsovet.su/load/321-1-0-34648" TargetMode="External"/><Relationship Id="rId7" Type="http://schemas.openxmlformats.org/officeDocument/2006/relationships/hyperlink" Target="http://pedsovet.su/load/321-1-0-34648" TargetMode="External"/><Relationship Id="rId8" Type="http://schemas.openxmlformats.org/officeDocument/2006/relationships/hyperlink" Target="http://pedsovet.su/load/321-1-0-34648" TargetMode="External"/><Relationship Id="rId9" Type="http://schemas.openxmlformats.org/officeDocument/2006/relationships/hyperlink" Target="http://bestmaps.ru/place/moscow-kremlin" TargetMode="External"/><Relationship Id="rId10" Type="http://schemas.openxmlformats.org/officeDocument/2006/relationships/hyperlink" Target="http://bestmaps.ru/place/moscow-kremlin" TargetMode="External"/><Relationship Id="rId11" Type="http://schemas.openxmlformats.org/officeDocument/2006/relationships/hyperlink" Target="http://bestmaps.ru/place/moscow-kremlin" TargetMode="External"/><Relationship Id="rId12" Type="http://schemas.openxmlformats.org/officeDocument/2006/relationships/hyperlink" Target="http://bestmaps.ru/place/moscow-kremlin" TargetMode="External"/><Relationship Id="rId13" Type="http://schemas.openxmlformats.org/officeDocument/2006/relationships/hyperlink" Target="http://bestmaps.ru/place/moscow-kremlin" TargetMode="External"/><Relationship Id="rId14" Type="http://schemas.openxmlformats.org/officeDocument/2006/relationships/hyperlink" Target="http://bestmaps.ru/place/moscow-kremlin" TargetMode="External"/><Relationship Id="rId15" Type="http://schemas.openxmlformats.org/officeDocument/2006/relationships/hyperlink" Target="http://bestmaps.ru/place/moscow-kremlin" TargetMode="External"/><Relationship Id="rId16" Type="http://schemas.openxmlformats.org/officeDocument/2006/relationships/hyperlink" Target="http://tur-otdyh.ru/wp-content/uploads/2012/06/priroda1_41.jpg" TargetMode="External"/><Relationship Id="rId17" Type="http://schemas.openxmlformats.org/officeDocument/2006/relationships/hyperlink" Target="http://tur-otdyh.ru/wp-content/uploads/2012/06/priroda1_41.jpg" TargetMode="External"/><Relationship Id="rId18" Type="http://schemas.openxmlformats.org/officeDocument/2006/relationships/hyperlink" Target="http://tur-otdyh.ru/wp-content/uploads/2012/06/priroda1_41.jpg" TargetMode="External"/><Relationship Id="rId19" Type="http://schemas.openxmlformats.org/officeDocument/2006/relationships/hyperlink" Target="http://tur-otdyh.ru/wp-content/uploads/2012/06/priroda1_41.jpg" TargetMode="External"/><Relationship Id="rId20" Type="http://schemas.openxmlformats.org/officeDocument/2006/relationships/hyperlink" Target="http://tur-otdyh.ru/wp-content/uploads/2012/06/priroda1_41.jpg" TargetMode="External"/><Relationship Id="rId21" Type="http://schemas.openxmlformats.org/officeDocument/2006/relationships/hyperlink" Target="http://tur-otdyh.ru/wp-content/uploads/2012/06/priroda1_41.jpg" TargetMode="External"/><Relationship Id="rId22" Type="http://schemas.openxmlformats.org/officeDocument/2006/relationships/hyperlink" Target="http://tur-otdyh.ru/wp-content/uploads/2012/06/priroda1_41.jpg" TargetMode="External"/><Relationship Id="rId23" Type="http://schemas.openxmlformats.org/officeDocument/2006/relationships/hyperlink" Target="http://tur-otdyh.ru/wp-content/uploads/2012/06/priroda1_41.jpg" TargetMode="External"/><Relationship Id="rId24" Type="http://schemas.openxmlformats.org/officeDocument/2006/relationships/hyperlink" Target="http://www.sibparus.ru/images/flower/IMGP2242_2.jpg" TargetMode="External"/><Relationship Id="rId25" Type="http://schemas.openxmlformats.org/officeDocument/2006/relationships/hyperlink" Target="http://www.sibparus.ru/images/flower/IMGP2242_2.jpg" TargetMode="External"/><Relationship Id="rId26" Type="http://schemas.openxmlformats.org/officeDocument/2006/relationships/hyperlink" Target="http://www.sibparus.ru/images/flower/IMGP2242_2.jpg" TargetMode="External"/><Relationship Id="rId27" Type="http://schemas.openxmlformats.org/officeDocument/2006/relationships/hyperlink" Target="http://www.sibparus.ru/images/flower/IMGP2242_2.jpg" TargetMode="External"/><Relationship Id="rId28" Type="http://schemas.openxmlformats.org/officeDocument/2006/relationships/hyperlink" Target="http://www.sibparus.ru/images/flower/IMGP2242_2.jpg" TargetMode="External"/><Relationship Id="rId29" Type="http://schemas.openxmlformats.org/officeDocument/2006/relationships/hyperlink" Target="http://www.sibparus.ru/images/flower/IMGP2242_2.jpg" TargetMode="External"/><Relationship Id="rId30" Type="http://schemas.openxmlformats.org/officeDocument/2006/relationships/hyperlink" Target="http://www.sibparus.ru/images/flower/IMGP2242_2.jpg" TargetMode="External"/><Relationship Id="rId31" Type="http://schemas.openxmlformats.org/officeDocument/2006/relationships/hyperlink" Target="http://www.sibparus.ru/images/flower/IMGP2242_2.jpg" TargetMode="External"/><Relationship Id="rId32" Type="http://schemas.openxmlformats.org/officeDocument/2006/relationships/hyperlink" Target="http://img-2005-02.photosight.ru/10/757450.jpg" TargetMode="External"/><Relationship Id="rId33" Type="http://schemas.openxmlformats.org/officeDocument/2006/relationships/hyperlink" Target="http://img-2005-02.photosight.ru/10/757450.jpg" TargetMode="External"/><Relationship Id="rId34" Type="http://schemas.openxmlformats.org/officeDocument/2006/relationships/hyperlink" Target="http://www.sibparus.ru/images/Photo/IMGP2196_.jpg" TargetMode="External"/><Relationship Id="rId35" Type="http://schemas.openxmlformats.org/officeDocument/2006/relationships/hyperlink" Target="http://www.sibparus.ru/images/Photo/IMGP2196_.jpg" TargetMode="External"/><Relationship Id="rId36" Type="http://schemas.openxmlformats.org/officeDocument/2006/relationships/hyperlink" Target="http://www.sibparus.ru/images/Photo/IMGP2196_.jpg" TargetMode="External"/><Relationship Id="rId37" Type="http://schemas.openxmlformats.org/officeDocument/2006/relationships/hyperlink" Target="http://www.sibparus.ru/images/Photo/IMGP2196_.jpg" TargetMode="External"/><Relationship Id="rId38" Type="http://schemas.openxmlformats.org/officeDocument/2006/relationships/hyperlink" Target="http://www.sibparus.ru/images/Photo/IMGP2196_.jpg" TargetMode="External"/><Relationship Id="rId39" Type="http://schemas.openxmlformats.org/officeDocument/2006/relationships/hyperlink" Target="http://www.sibparus.ru/images/Photo/IMGP2196_.jpg" TargetMode="External"/><Relationship Id="rId40" Type="http://schemas.openxmlformats.org/officeDocument/2006/relationships/hyperlink" Target="http://www.sibparus.ru/images/Photo/IMGP2196_.jpg" TargetMode="External"/><Relationship Id="rId41" Type="http://schemas.openxmlformats.org/officeDocument/2006/relationships/hyperlink" Target="http://www.sibparus.ru/images/Photo/IMGP2196_.jpg" TargetMode="External"/><Relationship Id="rId42" Type="http://schemas.openxmlformats.org/officeDocument/2006/relationships/hyperlink" Target="http://www.sibparus.ru/images/Photo/IMGP2068_1.jpg" TargetMode="External"/><Relationship Id="rId43" Type="http://schemas.openxmlformats.org/officeDocument/2006/relationships/hyperlink" Target="http://www.sibparus.ru/images/Photo/IMGP2068_1.jpg" TargetMode="External"/><Relationship Id="rId44" Type="http://schemas.openxmlformats.org/officeDocument/2006/relationships/hyperlink" Target="http://www.sibparus.ru/images/Photo/IMGP2068_1.jpg" TargetMode="External"/><Relationship Id="rId45" Type="http://schemas.openxmlformats.org/officeDocument/2006/relationships/hyperlink" Target="http://www.sibparus.ru/images/Photo/IMGP2068_1.jpg" TargetMode="External"/><Relationship Id="rId46" Type="http://schemas.openxmlformats.org/officeDocument/2006/relationships/hyperlink" Target="http://www.sibparus.ru/images/Photo/IMGP2068_1.jpg" TargetMode="External"/><Relationship Id="rId47" Type="http://schemas.openxmlformats.org/officeDocument/2006/relationships/hyperlink" Target="http://www.sibparus.ru/images/Photo/IMGP2068_1.jpg" TargetMode="External"/><Relationship Id="rId48" Type="http://schemas.openxmlformats.org/officeDocument/2006/relationships/hyperlink" Target="http://www.sibparus.ru/images/Photo/IMGP2068_1.jpg" TargetMode="External"/><Relationship Id="rId49" Type="http://schemas.openxmlformats.org/officeDocument/2006/relationships/hyperlink" Target="http://www.sibparus.ru/images/Photo/IMGP2068_1.jpg" TargetMode="External"/><Relationship Id="rId50" Type="http://schemas.openxmlformats.org/officeDocument/2006/relationships/hyperlink" Target="http://fotkidepo.ru/photo/476432/11772nDanwQvlHo/SPUPcXUW5N/202379.jpg" TargetMode="External"/><Relationship Id="rId51" Type="http://schemas.openxmlformats.org/officeDocument/2006/relationships/hyperlink" Target="http://fotkidepo.ru/photo/476432/11772nDanwQvlHo/SPUPcXUW5N/202379.jpg" TargetMode="External"/><Relationship Id="rId52" Type="http://schemas.openxmlformats.org/officeDocument/2006/relationships/hyperlink" Target="http://fotkidepo.ru/photo/476432/11772nDanwQvlHo/SPUPcXUW5N/202379.jpg" TargetMode="External"/><Relationship Id="rId53" Type="http://schemas.openxmlformats.org/officeDocument/2006/relationships/hyperlink" Target="http://fotkidepo.ru/photo/476432/11772nDanwQvlHo/SPUPcXUW5N/202379.jpg" TargetMode="External"/><Relationship Id="rId54" Type="http://schemas.openxmlformats.org/officeDocument/2006/relationships/hyperlink" Target="http://fotkidepo.ru/photo/476432/11772nDanwQvlHo/SPUPcXUW5N/202379.jpg" TargetMode="External"/><Relationship Id="rId55" Type="http://schemas.openxmlformats.org/officeDocument/2006/relationships/hyperlink" Target="http://fotkidepo.ru/photo/476432/11772nDanwQvlHo/SPUPcXUW5N/202379.jpg" TargetMode="External"/><Relationship Id="rId56" Type="http://schemas.openxmlformats.org/officeDocument/2006/relationships/hyperlink" Target="http://oformi.net/gallery/priroda/27685-priroda-rossii.html" TargetMode="External"/><Relationship Id="rId57" Type="http://schemas.openxmlformats.org/officeDocument/2006/relationships/hyperlink" Target="http://oformi.net/gallery/priroda/27685-priroda-rossii.html" TargetMode="External"/><Relationship Id="rId58" Type="http://schemas.openxmlformats.org/officeDocument/2006/relationships/hyperlink" Target="http://oformi.net/gallery/priroda/27685-priroda-rossii.html" TargetMode="External"/><Relationship Id="rId59" Type="http://schemas.openxmlformats.org/officeDocument/2006/relationships/hyperlink" Target="http://oformi.net/gallery/priroda/27685-priroda-rossii.html" TargetMode="External"/><Relationship Id="rId60" Type="http://schemas.openxmlformats.org/officeDocument/2006/relationships/hyperlink" Target="http://oformi.net/gallery/priroda/27685-priroda-rossii.html" TargetMode="External"/><Relationship Id="rId61" Type="http://schemas.openxmlformats.org/officeDocument/2006/relationships/hyperlink" Target="http://oformi.net/gallery/priroda/27685-priroda-rossii.html" TargetMode="External"/><Relationship Id="rId62" Type="http://schemas.openxmlformats.org/officeDocument/2006/relationships/hyperlink" Target="http://oformi.net/gallery/priroda/27685-priroda-rossii.html" TargetMode="External"/><Relationship Id="rId63" Type="http://schemas.openxmlformats.org/officeDocument/2006/relationships/hyperlink" Target="http://oformi.net/gallery/priroda/27685-priroda-rossii.html" TargetMode="External"/><Relationship Id="rId64" Type="http://schemas.openxmlformats.org/officeDocument/2006/relationships/hyperlink" Target="http://nnm.ru/blogs/rusol83/dikaya_priroda_rossii_3_serii_iz_6_national_geographic_wild_russia_2009_hdtvrip_720p/" TargetMode="External"/><Relationship Id="rId65" Type="http://schemas.openxmlformats.org/officeDocument/2006/relationships/hyperlink" Target="http://nnm.ru/blogs/rusol83/dikaya_priroda_rossii_3_serii_iz_6_national_geographic_wild_russia_2009_hdtvrip_720p/" TargetMode="External"/><Relationship Id="rId66" Type="http://schemas.openxmlformats.org/officeDocument/2006/relationships/hyperlink" Target="http://nnm.ru/blogs/rusol83/dikaya_priroda_rossii_3_serii_iz_6_national_geographic_wild_russia_2009_hdtvrip_720p/" TargetMode="External"/><Relationship Id="rId67" Type="http://schemas.openxmlformats.org/officeDocument/2006/relationships/hyperlink" Target="http://nnm.ru/blogs/rusol83/dikaya_priroda_rossii_3_serii_iz_6_national_geographic_wild_russia_2009_hdtvrip_720p/" TargetMode="External"/><Relationship Id="rId68" Type="http://schemas.openxmlformats.org/officeDocument/2006/relationships/hyperlink" Target="http://nnm.ru/blogs/rusol83/dikaya_priroda_rossii_3_serii_iz_6_national_geographic_wild_russia_2009_hdtvrip_720p/" TargetMode="External"/><Relationship Id="rId69" Type="http://schemas.openxmlformats.org/officeDocument/2006/relationships/hyperlink" Target="http://nnm.ru/blogs/rusol83/dikaya_priroda_rossii_3_serii_iz_6_national_geographic_wild_russia_2009_hdtvrip_720p/" TargetMode="External"/><Relationship Id="rId70" Type="http://schemas.openxmlformats.org/officeDocument/2006/relationships/hyperlink" Target="http://nnm.ru/blogs/rusol83/dikaya_priroda_rossii_3_serii_iz_6_national_geographic_wild_russia_2009_hdtvrip_720p/" TargetMode="External"/><Relationship Id="rId71" Type="http://schemas.openxmlformats.org/officeDocument/2006/relationships/hyperlink" Target="http://nnm.ru/blogs/rusol83/dikaya_priroda_rossii_3_serii_iz_6_national_geographic_wild_russia_2009_hdtvrip_720p/" TargetMode="External"/><Relationship Id="rId72" Type="http://schemas.openxmlformats.org/officeDocument/2006/relationships/hyperlink" Target="http://img0.liveinternet.ru/images/attach/c/1/59/104/59104168_1274008069_216287368.jpg" TargetMode="External"/><Relationship Id="rId73" Type="http://schemas.openxmlformats.org/officeDocument/2006/relationships/hyperlink" Target="http://img0.liveinternet.ru/images/attach/c/1/59/104/59104168_1274008069_216287368.jpg" TargetMode="External"/><Relationship Id="rId74" Type="http://schemas.openxmlformats.org/officeDocument/2006/relationships/hyperlink" Target="http://img0.liveinternet.ru/images/attach/c/1/59/104/59104168_1274008069_216287368.jpg" TargetMode="External"/><Relationship Id="rId75" Type="http://schemas.openxmlformats.org/officeDocument/2006/relationships/hyperlink" Target="http://img0.liveinternet.ru/images/attach/c/1/59/104/59104168_1274008069_216287368.jpg" TargetMode="External"/><Relationship Id="rId76" Type="http://schemas.openxmlformats.org/officeDocument/2006/relationships/hyperlink" Target="http://img0.liveinternet.ru/images/attach/c/1/59/104/59104168_1274008069_216287368.jpg" TargetMode="External"/><Relationship Id="rId77" Type="http://schemas.openxmlformats.org/officeDocument/2006/relationships/hyperlink" Target="http://img0.liveinternet.ru/images/attach/c/1/59/104/59104168_1274008069_216287368.jpg" TargetMode="External"/><Relationship Id="rId78" Type="http://schemas.openxmlformats.org/officeDocument/2006/relationships/hyperlink" Target="http://nnm.ru/blogs/5erg/dikaya_priroda_rossii_wild_russia_2009_hdtvrip_720p_2/" TargetMode="External"/><Relationship Id="rId79" Type="http://schemas.openxmlformats.org/officeDocument/2006/relationships/hyperlink" Target="http://nnm.ru/blogs/5erg/dikaya_priroda_rossii_wild_russia_2009_hdtvrip_720p_2/" TargetMode="External"/><Relationship Id="rId80" Type="http://schemas.openxmlformats.org/officeDocument/2006/relationships/hyperlink" Target="http://nnm.ru/blogs/5erg/dikaya_priroda_rossii_wild_russia_2009_hdtvrip_720p_2/" TargetMode="External"/><Relationship Id="rId81" Type="http://schemas.openxmlformats.org/officeDocument/2006/relationships/hyperlink" Target="http://nnm.ru/blogs/5erg/dikaya_priroda_rossii_wild_russia_2009_hdtvrip_720p_2/" TargetMode="External"/><Relationship Id="rId82" Type="http://schemas.openxmlformats.org/officeDocument/2006/relationships/hyperlink" Target="http://nnm.ru/blogs/5erg/dikaya_priroda_rossii_wild_russia_2009_hdtvrip_720p_2/" TargetMode="External"/><Relationship Id="rId83" Type="http://schemas.openxmlformats.org/officeDocument/2006/relationships/hyperlink" Target="http://nnm.ru/blogs/5erg/dikaya_priroda_rossii_wild_russia_2009_hdtvrip_720p_2/" TargetMode="External"/><Relationship Id="rId84" Type="http://schemas.openxmlformats.org/officeDocument/2006/relationships/hyperlink" Target="http://www.photohost.ru/pictures/46280.jpg" TargetMode="External"/><Relationship Id="rId85" Type="http://schemas.openxmlformats.org/officeDocument/2006/relationships/hyperlink" Target="http://www.photohost.ru/pictures/46280.jpg" TargetMode="External"/><Relationship Id="rId86" Type="http://schemas.openxmlformats.org/officeDocument/2006/relationships/hyperlink" Target="http://www.photohost.ru/pictures/46280.jpg" TargetMode="External"/><Relationship Id="rId87" Type="http://schemas.openxmlformats.org/officeDocument/2006/relationships/hyperlink" Target="http://www.photohost.ru/pictures/46280.jpg" TargetMode="External"/><Relationship Id="rId88" Type="http://schemas.openxmlformats.org/officeDocument/2006/relationships/hyperlink" Target="http://www.photohost.ru/pictures/46280.jpg" TargetMode="External"/><Relationship Id="rId89" Type="http://schemas.openxmlformats.org/officeDocument/2006/relationships/hyperlink" Target="http://www.photohost.ru/pictures/46280.jpg" TargetMode="External"/><Relationship Id="rId90" Type="http://schemas.openxmlformats.org/officeDocument/2006/relationships/hyperlink" Target="http://ponimai.su/cmspage/2023/-----------&#1087;&#1088;&#1080;&#1088;&#1086;&#1076;&#1072;" TargetMode="External"/><Relationship Id="rId91" Type="http://schemas.openxmlformats.org/officeDocument/2006/relationships/hyperlink" Target="http://ponimai.su/cmspage/2023/-----------&#1087;&#1088;&#1080;&#1088;&#1086;&#1076;&#1072;" TargetMode="External"/><Relationship Id="rId92" Type="http://schemas.openxmlformats.org/officeDocument/2006/relationships/hyperlink" Target="http://ponimai.su/cmspage/2023/-----------&#1087;&#1088;&#1080;&#1088;&#1086;&#1076;&#1072;" TargetMode="External"/><Relationship Id="rId93" Type="http://schemas.openxmlformats.org/officeDocument/2006/relationships/hyperlink" Target="http://ponimai.su/cmspage/2023/-----------&#1087;&#1088;&#1080;&#1088;&#1086;&#1076;&#1072;" TargetMode="External"/><Relationship Id="rId94" Type="http://schemas.openxmlformats.org/officeDocument/2006/relationships/hyperlink" Target="http://ponimai.su/cmspage/2023/-----------&#1087;&#1088;&#1080;&#1088;&#1086;&#1076;&#1072;" TargetMode="External"/><Relationship Id="rId95" Type="http://schemas.openxmlformats.org/officeDocument/2006/relationships/hyperlink" Target="http://ponimai.su/cmspage/2023/-----------&#1087;&#1088;&#1080;&#1088;&#1086;&#1076;&#1072;" TargetMode="External"/><Relationship Id="rId96" Type="http://schemas.openxmlformats.org/officeDocument/2006/relationships/hyperlink" Target="http://www.smileplanet.ru/photo/690-0-103" TargetMode="External"/><Relationship Id="rId97" Type="http://schemas.openxmlformats.org/officeDocument/2006/relationships/hyperlink" Target="http://www.smileplanet.ru/photo/690-0-103" TargetMode="External"/><Relationship Id="rId98" Type="http://schemas.openxmlformats.org/officeDocument/2006/relationships/hyperlink" Target="http://www.smileplanet.ru/photo/690-0-103" TargetMode="External"/><Relationship Id="rId99" Type="http://schemas.openxmlformats.org/officeDocument/2006/relationships/hyperlink" Target="http://www.smileplanet.ru/photo/690-0-103" TargetMode="External"/><Relationship Id="rId100" Type="http://schemas.openxmlformats.org/officeDocument/2006/relationships/hyperlink" Target="http://www.smileplanet.ru/photo/690-0-103" TargetMode="External"/><Relationship Id="rId101" Type="http://schemas.openxmlformats.org/officeDocument/2006/relationships/hyperlink" Target="http://www.smileplanet.ru/photo/690-0-103" TargetMode="External"/><Relationship Id="rId102" Type="http://schemas.openxmlformats.org/officeDocument/2006/relationships/hyperlink" Target="http://www.smileplanet.ru/photo/690-0-99" TargetMode="External"/><Relationship Id="rId103" Type="http://schemas.openxmlformats.org/officeDocument/2006/relationships/hyperlink" Target="http://www.smileplanet.ru/photo/690-0-99" TargetMode="External"/><Relationship Id="rId104" Type="http://schemas.openxmlformats.org/officeDocument/2006/relationships/hyperlink" Target="http://www.smileplanet.ru/photo/690-0-99" TargetMode="External"/><Relationship Id="rId105" Type="http://schemas.openxmlformats.org/officeDocument/2006/relationships/hyperlink" Target="http://www.smileplanet.ru/photo/690-0-99" TargetMode="External"/><Relationship Id="rId106" Type="http://schemas.openxmlformats.org/officeDocument/2006/relationships/hyperlink" Target="http://www.smileplanet.ru/photo/690-0-99" TargetMode="External"/><Relationship Id="rId107" Type="http://schemas.openxmlformats.org/officeDocument/2006/relationships/hyperlink" Target="http://www.smileplanet.ru/photo/690-0-99" TargetMode="External"/><Relationship Id="rId10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mileplanet.ru/photo/690-0-107" TargetMode="External"/><Relationship Id="rId3" Type="http://schemas.openxmlformats.org/officeDocument/2006/relationships/hyperlink" Target="http://www.smileplanet.ru/photo/690-0-107" TargetMode="External"/><Relationship Id="rId4" Type="http://schemas.openxmlformats.org/officeDocument/2006/relationships/hyperlink" Target="http://www.smileplanet.ru/photo/690-0-107" TargetMode="External"/><Relationship Id="rId5" Type="http://schemas.openxmlformats.org/officeDocument/2006/relationships/hyperlink" Target="http://www.smileplanet.ru/photo/690-0-107" TargetMode="External"/><Relationship Id="rId6" Type="http://schemas.openxmlformats.org/officeDocument/2006/relationships/hyperlink" Target="http://www.smileplanet.ru/photo/690-0-107" TargetMode="External"/><Relationship Id="rId7" Type="http://schemas.openxmlformats.org/officeDocument/2006/relationships/hyperlink" Target="http://www.smileplanet.ru/photo/690-0-107" TargetMode="External"/><Relationship Id="rId8" Type="http://schemas.openxmlformats.org/officeDocument/2006/relationships/hyperlink" Target="http://www.smileplanet.ru/photo/690-0-106" TargetMode="External"/><Relationship Id="rId9" Type="http://schemas.openxmlformats.org/officeDocument/2006/relationships/hyperlink" Target="http://www.smileplanet.ru/photo/690-0-106" TargetMode="External"/><Relationship Id="rId10" Type="http://schemas.openxmlformats.org/officeDocument/2006/relationships/hyperlink" Target="http://www.smileplanet.ru/photo/690-0-106" TargetMode="External"/><Relationship Id="rId11" Type="http://schemas.openxmlformats.org/officeDocument/2006/relationships/hyperlink" Target="http://www.smileplanet.ru/photo/690-0-106" TargetMode="External"/><Relationship Id="rId12" Type="http://schemas.openxmlformats.org/officeDocument/2006/relationships/hyperlink" Target="http://www.smileplanet.ru/photo/690-0-106" TargetMode="External"/><Relationship Id="rId13" Type="http://schemas.openxmlformats.org/officeDocument/2006/relationships/hyperlink" Target="http://www.smileplanet.ru/photo/690-0-106" TargetMode="External"/><Relationship Id="rId14" Type="http://schemas.openxmlformats.org/officeDocument/2006/relationships/hyperlink" Target="http://www.photohost.ru/pictures/46280.jpg-" TargetMode="External"/><Relationship Id="rId15" Type="http://schemas.openxmlformats.org/officeDocument/2006/relationships/hyperlink" Target="http://www.photohost.ru/pictures/46280.jpg-" TargetMode="External"/><Relationship Id="rId16" Type="http://schemas.openxmlformats.org/officeDocument/2006/relationships/hyperlink" Target="http://www.photohost.ru/pictures/46280.jpg-" TargetMode="External"/><Relationship Id="rId17" Type="http://schemas.openxmlformats.org/officeDocument/2006/relationships/hyperlink" Target="http://www.photohost.ru/pictures/46280.jpg-" TargetMode="External"/><Relationship Id="rId18" Type="http://schemas.openxmlformats.org/officeDocument/2006/relationships/hyperlink" Target="http://www.photohost.ru/pictures/46280.jpg-" TargetMode="External"/><Relationship Id="rId19" Type="http://schemas.openxmlformats.org/officeDocument/2006/relationships/hyperlink" Target="http://www.photohost.ru/pictures/46280.jpg-" TargetMode="External"/><Relationship Id="rId20" Type="http://schemas.openxmlformats.org/officeDocument/2006/relationships/hyperlink" Target="http://www.smileplanet.ru/photo/690-0-96" TargetMode="External"/><Relationship Id="rId21" Type="http://schemas.openxmlformats.org/officeDocument/2006/relationships/hyperlink" Target="http://www.smileplanet.ru/photo/690-0-96" TargetMode="External"/><Relationship Id="rId22" Type="http://schemas.openxmlformats.org/officeDocument/2006/relationships/hyperlink" Target="http://www.smileplanet.ru/photo/690-0-96" TargetMode="External"/><Relationship Id="rId23" Type="http://schemas.openxmlformats.org/officeDocument/2006/relationships/hyperlink" Target="http://www.smileplanet.ru/photo/690-0-96" TargetMode="External"/><Relationship Id="rId24" Type="http://schemas.openxmlformats.org/officeDocument/2006/relationships/hyperlink" Target="http://www.smileplanet.ru/photo/690-0-96" TargetMode="External"/><Relationship Id="rId25" Type="http://schemas.openxmlformats.org/officeDocument/2006/relationships/hyperlink" Target="http://www.smileplanet.ru/photo/690-0-96" TargetMode="External"/><Relationship Id="rId26" Type="http://schemas.openxmlformats.org/officeDocument/2006/relationships/hyperlink" Target="http://www.smileplanet.ru/photo/690-0-958" TargetMode="External"/><Relationship Id="rId27" Type="http://schemas.openxmlformats.org/officeDocument/2006/relationships/hyperlink" Target="http://www.smileplanet.ru/photo/690-0-958" TargetMode="External"/><Relationship Id="rId28" Type="http://schemas.openxmlformats.org/officeDocument/2006/relationships/hyperlink" Target="http://www.smileplanet.ru/photo/690-0-958" TargetMode="External"/><Relationship Id="rId29" Type="http://schemas.openxmlformats.org/officeDocument/2006/relationships/hyperlink" Target="http://www.smileplanet.ru/photo/690-0-958" TargetMode="External"/><Relationship Id="rId30" Type="http://schemas.openxmlformats.org/officeDocument/2006/relationships/hyperlink" Target="http://www.smileplanet.ru/photo/690-0-958" TargetMode="External"/><Relationship Id="rId31" Type="http://schemas.openxmlformats.org/officeDocument/2006/relationships/hyperlink" Target="http://www.smileplanet.ru/photo/690-0-958" TargetMode="External"/><Relationship Id="rId32" Type="http://schemas.openxmlformats.org/officeDocument/2006/relationships/hyperlink" Target="http://gruzdyashkin.do.am/index/priroda_rossii/0-24" TargetMode="External"/><Relationship Id="rId33" Type="http://schemas.openxmlformats.org/officeDocument/2006/relationships/hyperlink" Target="http://gruzdyashkin.do.am/index/priroda_rossii/0-24" TargetMode="External"/><Relationship Id="rId34" Type="http://schemas.openxmlformats.org/officeDocument/2006/relationships/hyperlink" Target="http://gruzdyashkin.do.am/index/priroda_rossii/0-24" TargetMode="External"/><Relationship Id="rId35" Type="http://schemas.openxmlformats.org/officeDocument/2006/relationships/hyperlink" Target="http://gruzdyashkin.do.am/index/priroda_rossii/0-24" TargetMode="External"/><Relationship Id="rId36" Type="http://schemas.openxmlformats.org/officeDocument/2006/relationships/hyperlink" Target="http://gruzdyashkin.do.am/index/priroda_rossii/0-24" TargetMode="External"/><Relationship Id="rId37" Type="http://schemas.openxmlformats.org/officeDocument/2006/relationships/hyperlink" Target="http://gruzdyashkin.do.am/index/priroda_rossii/0-24" TargetMode="External"/><Relationship Id="rId38" Type="http://schemas.openxmlformats.org/officeDocument/2006/relationships/hyperlink" Target="http://gruzdyashkin.do.am/index/priroda_rossii/0-24" TargetMode="External"/><Relationship Id="rId39" Type="http://schemas.openxmlformats.org/officeDocument/2006/relationships/hyperlink" Target="http://gruzdyashkin.do.am/index/priroda_rossii/0-24" TargetMode="External"/><Relationship Id="rId40" Type="http://schemas.openxmlformats.org/officeDocument/2006/relationships/hyperlink" Target="http://travelel.ru/pokazat-kartu-rossii" TargetMode="External"/><Relationship Id="rId41" Type="http://schemas.openxmlformats.org/officeDocument/2006/relationships/hyperlink" Target="http://travelel.ru/pokazat-kartu-rossii" TargetMode="External"/><Relationship Id="rId42" Type="http://schemas.openxmlformats.org/officeDocument/2006/relationships/hyperlink" Target="http://travelel.ru/pokazat-kartu-rossii" TargetMode="External"/><Relationship Id="rId43" Type="http://schemas.openxmlformats.org/officeDocument/2006/relationships/hyperlink" Target="http://travelel.ru/pokazat-kartu-rossii" TargetMode="External"/><Relationship Id="rId44" Type="http://schemas.openxmlformats.org/officeDocument/2006/relationships/hyperlink" Target="http://travelel.ru/pokazat-kartu-rossii" TargetMode="External"/><Relationship Id="rId45" Type="http://schemas.openxmlformats.org/officeDocument/2006/relationships/hyperlink" Target="http://www.tuva.asia/uploads/posts/2009-09/1254335473_tatary.jpg" TargetMode="External"/><Relationship Id="rId46" Type="http://schemas.openxmlformats.org/officeDocument/2006/relationships/hyperlink" Target="http://www.tuva.asia/uploads/posts/2009-09/1254335473_tatary.jpg" TargetMode="External"/><Relationship Id="rId47" Type="http://schemas.openxmlformats.org/officeDocument/2006/relationships/hyperlink" Target="http://www.tuva.asia/uploads/posts/2009-09/1254335473_tatary.jpg" TargetMode="External"/><Relationship Id="rId48" Type="http://schemas.openxmlformats.org/officeDocument/2006/relationships/hyperlink" Target="http://www.tuva.asia/uploads/posts/2009-09/1254335473_tatary.jpg" TargetMode="External"/><Relationship Id="rId49" Type="http://schemas.openxmlformats.org/officeDocument/2006/relationships/hyperlink" Target="http://www.tuva.asia/uploads/posts/2009-09/1254335473_tatary.jpg" TargetMode="External"/><Relationship Id="rId50" Type="http://schemas.openxmlformats.org/officeDocument/2006/relationships/hyperlink" Target="http://www.tuva.asia/uploads/posts/2009-09/1254335473_tatary.jpg" TargetMode="External"/><Relationship Id="rId51" Type="http://schemas.openxmlformats.org/officeDocument/2006/relationships/hyperlink" Target="http://www.tuva.asia/uploads/posts/2009-09/1254335473_tatary.jpg" TargetMode="External"/><Relationship Id="rId52" Type="http://schemas.openxmlformats.org/officeDocument/2006/relationships/hyperlink" Target="http://www.tuva.asia/uploads/posts/2009-09/1254335473_tatary.jpg" TargetMode="External"/><Relationship Id="rId53" Type="http://schemas.openxmlformats.org/officeDocument/2006/relationships/hyperlink" Target="http://www.muslims-volga.ru/_data/objects/00318/icon.jpg" TargetMode="External"/><Relationship Id="rId54" Type="http://schemas.openxmlformats.org/officeDocument/2006/relationships/hyperlink" Target="http://www.muslims-volga.ru/_data/objects/00318/icon.jpg" TargetMode="External"/><Relationship Id="rId55" Type="http://schemas.openxmlformats.org/officeDocument/2006/relationships/hyperlink" Target="http://www.muslims-volga.ru/_data/objects/00318/icon.jpg" TargetMode="External"/><Relationship Id="rId56" Type="http://schemas.openxmlformats.org/officeDocument/2006/relationships/hyperlink" Target="http://www.muslims-volga.ru/_data/objects/00318/icon.jpg" TargetMode="External"/><Relationship Id="rId57" Type="http://schemas.openxmlformats.org/officeDocument/2006/relationships/hyperlink" Target="http://www.muslims-volga.ru/_data/objects/00318/icon.jpg" TargetMode="External"/><Relationship Id="rId58" Type="http://schemas.openxmlformats.org/officeDocument/2006/relationships/hyperlink" Target="http://www.muslims-volga.ru/_data/objects/00318/icon.jpg" TargetMode="External"/><Relationship Id="rId59" Type="http://schemas.openxmlformats.org/officeDocument/2006/relationships/hyperlink" Target="http://www.muslims-volga.ru/_data/objects/00318/icon.jpg" TargetMode="External"/><Relationship Id="rId60" Type="http://schemas.openxmlformats.org/officeDocument/2006/relationships/hyperlink" Target="http://www.muslims-volga.ru/_data/objects/00318/icon.jpg" TargetMode="External"/><Relationship Id="rId61" Type="http://schemas.openxmlformats.org/officeDocument/2006/relationships/hyperlink" Target="http://www.muslims-volga.ru/_data/objects/00318/icon.jpg" TargetMode="External"/><Relationship Id="rId62" Type="http://schemas.openxmlformats.org/officeDocument/2006/relationships/hyperlink" Target="http://moscow-music.narod.ru/images/narodniki/25big.jpg" TargetMode="External"/><Relationship Id="rId63" Type="http://schemas.openxmlformats.org/officeDocument/2006/relationships/hyperlink" Target="http://moscow-music.narod.ru/images/narodniki/25big.jpg" TargetMode="External"/><Relationship Id="rId64" Type="http://schemas.openxmlformats.org/officeDocument/2006/relationships/hyperlink" Target="http://moscow-music.narod.ru/images/narodniki/25big.jpg" TargetMode="External"/><Relationship Id="rId65" Type="http://schemas.openxmlformats.org/officeDocument/2006/relationships/hyperlink" Target="http://moscow-music.narod.ru/images/narodniki/25big.jpg" TargetMode="External"/><Relationship Id="rId66" Type="http://schemas.openxmlformats.org/officeDocument/2006/relationships/hyperlink" Target="http://moscow-music.narod.ru/images/narodniki/25big.jpg" TargetMode="External"/><Relationship Id="rId67" Type="http://schemas.openxmlformats.org/officeDocument/2006/relationships/hyperlink" Target="http://moscow-music.narod.ru/images/narodniki/25big.jpg" TargetMode="External"/><Relationship Id="rId68" Type="http://schemas.openxmlformats.org/officeDocument/2006/relationships/hyperlink" Target="http://moscow-music.narod.ru/images/narodniki/25big.jpg" TargetMode="External"/><Relationship Id="rId69" Type="http://schemas.openxmlformats.org/officeDocument/2006/relationships/hyperlink" Target="http://moscow-music.narod.ru/images/narodniki/25big.jpg" TargetMode="External"/><Relationship Id="rId70" Type="http://schemas.openxmlformats.org/officeDocument/2006/relationships/hyperlink" Target="http://tyumen.rfn.ru/p/m_20709.jpg" TargetMode="External"/><Relationship Id="rId71" Type="http://schemas.openxmlformats.org/officeDocument/2006/relationships/hyperlink" Target="http://tyumen.rfn.ru/p/m_20709.jpg" TargetMode="External"/><Relationship Id="rId72" Type="http://schemas.openxmlformats.org/officeDocument/2006/relationships/hyperlink" Target="http://tyumen.rfn.ru/p/m_20709.jpg" TargetMode="External"/><Relationship Id="rId73" Type="http://schemas.openxmlformats.org/officeDocument/2006/relationships/hyperlink" Target="http://tyumen.rfn.ru/p/m_20709.jpg" TargetMode="External"/><Relationship Id="rId7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2"/>
          <a:stretch/>
        </p:blipFill>
        <p:spPr>
          <a:xfrm>
            <a:off x="853920" y="2193840"/>
            <a:ext cx="7948800" cy="31831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1335240" y="622440"/>
            <a:ext cx="8010360" cy="9745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4"/>
          <a:stretch/>
        </p:blipFill>
        <p:spPr>
          <a:xfrm>
            <a:off x="3565440" y="4943520"/>
            <a:ext cx="458496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09268813ee7f6ac6ef06ea137fe8adaf.jpeg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6318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28760" y="500040"/>
            <a:ext cx="8358120" cy="61768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14200" y="500040"/>
            <a:ext cx="8699760" cy="60181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Тополиный пух_jpg.jpg"/>
          <p:cNvPicPr/>
          <p:nvPr/>
        </p:nvPicPr>
        <p:blipFill>
          <a:blip r:embed="rId2"/>
          <a:stretch/>
        </p:blipFill>
        <p:spPr>
          <a:xfrm>
            <a:off x="250920" y="189000"/>
            <a:ext cx="8604000" cy="6453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8429400" cy="63277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8739360" cy="60721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3471267.jpg"/>
          <p:cNvPicPr/>
          <p:nvPr/>
        </p:nvPicPr>
        <p:blipFill>
          <a:blip r:embed="rId2"/>
          <a:stretch/>
        </p:blipFill>
        <p:spPr>
          <a:xfrm>
            <a:off x="250920" y="260280"/>
            <a:ext cx="8532720" cy="6399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14200" y="500040"/>
            <a:ext cx="8717040" cy="61437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8358120" cy="62830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8479080" cy="63579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1"/>
          <p:cNvGrpSpPr/>
          <p:nvPr/>
        </p:nvGrpSpPr>
        <p:grpSpPr>
          <a:xfrm>
            <a:off x="3267000" y="719280"/>
            <a:ext cx="4981680" cy="1761840"/>
            <a:chOff x="3267000" y="719280"/>
            <a:chExt cx="4981680" cy="1761840"/>
          </a:xfrm>
        </p:grpSpPr>
        <p:pic>
          <p:nvPicPr>
            <p:cNvPr id="45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267000" y="719280"/>
              <a:ext cx="498168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297240" y="749160"/>
              <a:ext cx="4925880" cy="17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nstantia"/>
                </a:rPr>
                <a:t>Наша страна-Россия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2124000" y="2637000"/>
            <a:ext cx="45846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8429400" cy="63198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8480160" cy="63579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783640" cy="62866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597880" cy="6429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8553240" cy="64296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604360" cy="6502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Прямоугольник 1"/>
          <p:cNvGrpSpPr/>
          <p:nvPr/>
        </p:nvGrpSpPr>
        <p:grpSpPr>
          <a:xfrm>
            <a:off x="895320" y="609480"/>
            <a:ext cx="7273800" cy="1060560"/>
            <a:chOff x="895320" y="609480"/>
            <a:chExt cx="7273800" cy="1060560"/>
          </a:xfrm>
        </p:grpSpPr>
        <p:pic>
          <p:nvPicPr>
            <p:cNvPr id="73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895320" y="609480"/>
              <a:ext cx="727380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28800" y="642960"/>
              <a:ext cx="72151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Россия – огромная и необъятная стран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7245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Прямоугольник 1"/>
          <p:cNvGrpSpPr/>
          <p:nvPr/>
        </p:nvGrpSpPr>
        <p:grpSpPr>
          <a:xfrm>
            <a:off x="969840" y="609480"/>
            <a:ext cx="7272360" cy="1060560"/>
            <a:chOff x="969840" y="609480"/>
            <a:chExt cx="7272360" cy="1060560"/>
          </a:xfrm>
        </p:grpSpPr>
        <p:pic>
          <p:nvPicPr>
            <p:cNvPr id="77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969840" y="609480"/>
              <a:ext cx="72723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00080" y="642960"/>
              <a:ext cx="72151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Много ли народа населяет такую огромную страну?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Прямоугольник 3"/>
          <p:cNvGrpSpPr/>
          <p:nvPr/>
        </p:nvGrpSpPr>
        <p:grpSpPr>
          <a:xfrm>
            <a:off x="969840" y="1895400"/>
            <a:ext cx="7272360" cy="2560680"/>
            <a:chOff x="969840" y="1895400"/>
            <a:chExt cx="7272360" cy="2560680"/>
          </a:xfrm>
        </p:grpSpPr>
        <p:pic>
          <p:nvPicPr>
            <p:cNvPr id="8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969840" y="1895400"/>
              <a:ext cx="727236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00080" y="1928880"/>
              <a:ext cx="721512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По данным переписи населения, которая проходила в 2010 году,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население России составляет более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141 млн. человек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Прямоугольник 5"/>
          <p:cNvGrpSpPr/>
          <p:nvPr/>
        </p:nvGrpSpPr>
        <p:grpSpPr>
          <a:xfrm>
            <a:off x="1042920" y="4614840"/>
            <a:ext cx="7265880" cy="1554120"/>
            <a:chOff x="1042920" y="4614840"/>
            <a:chExt cx="7265880" cy="1554120"/>
          </a:xfrm>
        </p:grpSpPr>
        <p:pic>
          <p:nvPicPr>
            <p:cNvPr id="83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042920" y="4614840"/>
              <a:ext cx="72658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071720" y="4643280"/>
              <a:ext cx="721512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Россию населяют более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180 национальностей, народностей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и этнических групп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2"/>
          <p:cNvGrpSpPr/>
          <p:nvPr/>
        </p:nvGrpSpPr>
        <p:grpSpPr>
          <a:xfrm>
            <a:off x="969840" y="609480"/>
            <a:ext cx="7272360" cy="1274760"/>
            <a:chOff x="969840" y="609480"/>
            <a:chExt cx="7272360" cy="1274760"/>
          </a:xfrm>
        </p:grpSpPr>
        <p:pic>
          <p:nvPicPr>
            <p:cNvPr id="8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969840" y="609480"/>
              <a:ext cx="72723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000080" y="642960"/>
              <a:ext cx="721512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nstantia"/>
                </a:rPr>
                <a:t>Россия – это русские, татары, башкиры, чеченцы, карелы, коми, удмурты, марийцы, нанайцы, чукчи и другие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" name="Рисунок 7" descr="25big.jpg"/>
          <p:cNvPicPr/>
          <p:nvPr/>
        </p:nvPicPr>
        <p:blipFill>
          <a:blip r:embed="rId3"/>
          <a:stretch/>
        </p:blipFill>
        <p:spPr>
          <a:xfrm>
            <a:off x="1619280" y="3860640"/>
            <a:ext cx="2681280" cy="2214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0" descr="icon.jpg"/>
          <p:cNvPicPr/>
          <p:nvPr/>
        </p:nvPicPr>
        <p:blipFill>
          <a:blip r:embed="rId4"/>
          <a:stretch/>
        </p:blipFill>
        <p:spPr>
          <a:xfrm>
            <a:off x="4500720" y="1844640"/>
            <a:ext cx="2714400" cy="221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1254335473_tatary.jpg"/>
          <p:cNvPicPr/>
          <p:nvPr/>
        </p:nvPicPr>
        <p:blipFill>
          <a:blip r:embed="rId5"/>
          <a:stretch/>
        </p:blipFill>
        <p:spPr>
          <a:xfrm>
            <a:off x="1258920" y="1844640"/>
            <a:ext cx="2592360" cy="21826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images.jpeg"/>
          <p:cNvPicPr/>
          <p:nvPr/>
        </p:nvPicPr>
        <p:blipFill>
          <a:blip r:embed="rId6"/>
          <a:stretch/>
        </p:blipFill>
        <p:spPr>
          <a:xfrm>
            <a:off x="5364000" y="3933720"/>
            <a:ext cx="2714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344000" cy="5508720"/>
          </a:xfrm>
          <a:prstGeom prst="rect">
            <a:avLst/>
          </a:prstGeom>
          <a:ln w="0">
            <a:noFill/>
          </a:ln>
        </p:spPr>
      </p:pic>
      <p:grpSp>
        <p:nvGrpSpPr>
          <p:cNvPr id="93" name="Прямоугольник 1"/>
          <p:cNvGrpSpPr/>
          <p:nvPr/>
        </p:nvGrpSpPr>
        <p:grpSpPr>
          <a:xfrm>
            <a:off x="1042920" y="609480"/>
            <a:ext cx="7265880" cy="1127160"/>
            <a:chOff x="1042920" y="609480"/>
            <a:chExt cx="7265880" cy="1127160"/>
          </a:xfrm>
        </p:grpSpPr>
        <p:pic>
          <p:nvPicPr>
            <p:cNvPr id="94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1042920" y="609480"/>
              <a:ext cx="72658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071720" y="642960"/>
              <a:ext cx="72151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nstantia"/>
                </a:rPr>
                <a:t>Мы - россияне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Прямоугольник 3"/>
          <p:cNvGrpSpPr/>
          <p:nvPr/>
        </p:nvGrpSpPr>
        <p:grpSpPr>
          <a:xfrm>
            <a:off x="1042920" y="609480"/>
            <a:ext cx="7265880" cy="1127160"/>
            <a:chOff x="1042920" y="609480"/>
            <a:chExt cx="7265880" cy="1127160"/>
          </a:xfrm>
        </p:grpSpPr>
        <p:pic>
          <p:nvPicPr>
            <p:cNvPr id="97" name="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1042920" y="609480"/>
              <a:ext cx="72658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071720" y="642960"/>
              <a:ext cx="72151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Как можно одним словом назвать жителей России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russiaeko.jpg"/>
          <p:cNvPicPr/>
          <p:nvPr/>
        </p:nvPicPr>
        <p:blipFill>
          <a:blip r:embed="rId2"/>
          <a:stretch/>
        </p:blipFill>
        <p:spPr>
          <a:xfrm>
            <a:off x="395280" y="214200"/>
            <a:ext cx="8424720" cy="631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Группа 1"/>
          <p:cNvGrpSpPr/>
          <p:nvPr/>
        </p:nvGrpSpPr>
        <p:grpSpPr>
          <a:xfrm>
            <a:off x="785880" y="2643120"/>
            <a:ext cx="3643200" cy="2214720"/>
            <a:chOff x="785880" y="2643120"/>
            <a:chExt cx="3643200" cy="2214720"/>
          </a:xfrm>
        </p:grpSpPr>
        <p:sp>
          <p:nvSpPr>
            <p:cNvPr id="102" name="Прямоугольник 2"/>
            <p:cNvSpPr/>
            <p:nvPr/>
          </p:nvSpPr>
          <p:spPr>
            <a:xfrm>
              <a:off x="785880" y="2643120"/>
              <a:ext cx="3643200" cy="730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оугольник 3"/>
            <p:cNvSpPr/>
            <p:nvPr/>
          </p:nvSpPr>
          <p:spPr>
            <a:xfrm>
              <a:off x="785880" y="3384360"/>
              <a:ext cx="3643200" cy="73188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Прямоугольник 4"/>
            <p:cNvSpPr/>
            <p:nvPr/>
          </p:nvSpPr>
          <p:spPr>
            <a:xfrm>
              <a:off x="785880" y="4127760"/>
              <a:ext cx="3643200" cy="730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Прямоугольник 5"/>
          <p:cNvGrpSpPr/>
          <p:nvPr/>
        </p:nvGrpSpPr>
        <p:grpSpPr>
          <a:xfrm>
            <a:off x="969840" y="609480"/>
            <a:ext cx="7272360" cy="1127160"/>
            <a:chOff x="969840" y="609480"/>
            <a:chExt cx="7272360" cy="1127160"/>
          </a:xfrm>
        </p:grpSpPr>
        <p:pic>
          <p:nvPicPr>
            <p:cNvPr id="106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969840" y="609480"/>
              <a:ext cx="72723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000080" y="642960"/>
              <a:ext cx="72151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Символы России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8" name="Рисунок 7" descr="200px-Coat_of_Arms_of_the_Russian_Federation_2.svg.png"/>
          <p:cNvPicPr/>
          <p:nvPr/>
        </p:nvPicPr>
        <p:blipFill>
          <a:blip r:embed="rId3"/>
          <a:stretch/>
        </p:blipFill>
        <p:spPr>
          <a:xfrm>
            <a:off x="4643280" y="2000160"/>
            <a:ext cx="36435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Группа 4"/>
          <p:cNvGrpSpPr/>
          <p:nvPr/>
        </p:nvGrpSpPr>
        <p:grpSpPr>
          <a:xfrm>
            <a:off x="785880" y="692280"/>
            <a:ext cx="7572240" cy="5473440"/>
            <a:chOff x="785880" y="692280"/>
            <a:chExt cx="7572240" cy="5473440"/>
          </a:xfrm>
        </p:grpSpPr>
        <p:sp>
          <p:nvSpPr>
            <p:cNvPr id="110" name="Прямоугольник 1"/>
            <p:cNvSpPr/>
            <p:nvPr/>
          </p:nvSpPr>
          <p:spPr>
            <a:xfrm>
              <a:off x="785880" y="692280"/>
              <a:ext cx="7572240" cy="1806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Прямоугольник 2"/>
            <p:cNvSpPr/>
            <p:nvPr/>
          </p:nvSpPr>
          <p:spPr>
            <a:xfrm>
              <a:off x="785880" y="2527200"/>
              <a:ext cx="7572240" cy="180324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Прямоугольник 3"/>
            <p:cNvSpPr/>
            <p:nvPr/>
          </p:nvSpPr>
          <p:spPr>
            <a:xfrm>
              <a:off x="785880" y="4359240"/>
              <a:ext cx="7572240" cy="18064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5"/>
          <p:cNvSpPr/>
          <p:nvPr/>
        </p:nvSpPr>
        <p:spPr>
          <a:xfrm>
            <a:off x="714240" y="12859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мир и чистота сов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714240" y="314316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небо, верность и прав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785880" y="478620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энергия, огонь и отва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2286000" cy="1524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072040" y="857160"/>
            <a:ext cx="2357640" cy="1482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5143680" y="2643120"/>
            <a:ext cx="2334960" cy="1552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9" name="Picture 5" descr=""/>
          <p:cNvPicPr/>
          <p:nvPr/>
        </p:nvPicPr>
        <p:blipFill>
          <a:blip r:embed="rId5"/>
          <a:stretch/>
        </p:blipFill>
        <p:spPr>
          <a:xfrm>
            <a:off x="1143000" y="2643120"/>
            <a:ext cx="2286000" cy="1571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grpSp>
        <p:nvGrpSpPr>
          <p:cNvPr id="120" name="Группа 6"/>
          <p:cNvGrpSpPr/>
          <p:nvPr/>
        </p:nvGrpSpPr>
        <p:grpSpPr>
          <a:xfrm>
            <a:off x="5214960" y="4500720"/>
            <a:ext cx="2286000" cy="1571400"/>
            <a:chOff x="5214960" y="4500720"/>
            <a:chExt cx="2286000" cy="1571400"/>
          </a:xfrm>
        </p:grpSpPr>
        <p:sp>
          <p:nvSpPr>
            <p:cNvPr id="121" name="Прямоугольник 7"/>
            <p:cNvSpPr/>
            <p:nvPr/>
          </p:nvSpPr>
          <p:spPr>
            <a:xfrm>
              <a:off x="5214960" y="4500720"/>
              <a:ext cx="2286000" cy="519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Прямоугольник 8"/>
            <p:cNvSpPr/>
            <p:nvPr/>
          </p:nvSpPr>
          <p:spPr>
            <a:xfrm>
              <a:off x="5214960" y="5027760"/>
              <a:ext cx="2286000" cy="5173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Прямоугольник 9"/>
            <p:cNvSpPr/>
            <p:nvPr/>
          </p:nvSpPr>
          <p:spPr>
            <a:xfrm>
              <a:off x="5214960" y="5553000"/>
              <a:ext cx="2286000" cy="5191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Picture 6" descr=""/>
          <p:cNvPicPr/>
          <p:nvPr/>
        </p:nvPicPr>
        <p:blipFill>
          <a:blip r:embed="rId6"/>
          <a:stretch/>
        </p:blipFill>
        <p:spPr>
          <a:xfrm>
            <a:off x="1143000" y="4500720"/>
            <a:ext cx="2300400" cy="1584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grpSp>
        <p:nvGrpSpPr>
          <p:cNvPr id="125" name="Овал 11"/>
          <p:cNvGrpSpPr/>
          <p:nvPr/>
        </p:nvGrpSpPr>
        <p:grpSpPr>
          <a:xfrm>
            <a:off x="3255840" y="542880"/>
            <a:ext cx="700200" cy="695520"/>
            <a:chOff x="3255840" y="542880"/>
            <a:chExt cx="700200" cy="695520"/>
          </a:xfrm>
        </p:grpSpPr>
        <p:pic>
          <p:nvPicPr>
            <p:cNvPr id="126" name="Овал 11" descr=""/>
            <p:cNvPicPr/>
            <p:nvPr/>
          </p:nvPicPr>
          <p:blipFill>
            <a:blip r:embed="rId7"/>
            <a:stretch/>
          </p:blipFill>
          <p:spPr>
            <a:xfrm>
              <a:off x="3255840" y="542880"/>
              <a:ext cx="7002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379680" y="665280"/>
              <a:ext cx="455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nstanti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Овал 12"/>
          <p:cNvGrpSpPr/>
          <p:nvPr/>
        </p:nvGrpSpPr>
        <p:grpSpPr>
          <a:xfrm>
            <a:off x="3255840" y="2395440"/>
            <a:ext cx="700200" cy="701640"/>
            <a:chOff x="3255840" y="2395440"/>
            <a:chExt cx="700200" cy="701640"/>
          </a:xfrm>
        </p:grpSpPr>
        <p:pic>
          <p:nvPicPr>
            <p:cNvPr id="129" name="Овал 12" descr=""/>
            <p:cNvPicPr/>
            <p:nvPr/>
          </p:nvPicPr>
          <p:blipFill>
            <a:blip r:embed="rId8"/>
            <a:stretch/>
          </p:blipFill>
          <p:spPr>
            <a:xfrm>
              <a:off x="3255840" y="2395440"/>
              <a:ext cx="7002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379680" y="252252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nstanti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Овал 13"/>
          <p:cNvGrpSpPr/>
          <p:nvPr/>
        </p:nvGrpSpPr>
        <p:grpSpPr>
          <a:xfrm>
            <a:off x="3181320" y="4254480"/>
            <a:ext cx="701640" cy="701640"/>
            <a:chOff x="3181320" y="4254480"/>
            <a:chExt cx="701640" cy="701640"/>
          </a:xfrm>
        </p:grpSpPr>
        <p:pic>
          <p:nvPicPr>
            <p:cNvPr id="132" name="Овал 13" descr=""/>
            <p:cNvPicPr/>
            <p:nvPr/>
          </p:nvPicPr>
          <p:blipFill>
            <a:blip r:embed="rId9"/>
            <a:stretch/>
          </p:blipFill>
          <p:spPr>
            <a:xfrm>
              <a:off x="3181320" y="4254480"/>
              <a:ext cx="7016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308400" y="4379760"/>
              <a:ext cx="455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nstanti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Овал 14"/>
          <p:cNvGrpSpPr/>
          <p:nvPr/>
        </p:nvGrpSpPr>
        <p:grpSpPr>
          <a:xfrm>
            <a:off x="7186680" y="609480"/>
            <a:ext cx="695160" cy="701640"/>
            <a:chOff x="7186680" y="609480"/>
            <a:chExt cx="695160" cy="701640"/>
          </a:xfrm>
        </p:grpSpPr>
        <p:pic>
          <p:nvPicPr>
            <p:cNvPr id="135" name="Овал 14" descr=""/>
            <p:cNvPicPr/>
            <p:nvPr/>
          </p:nvPicPr>
          <p:blipFill>
            <a:blip r:embed="rId10"/>
            <a:stretch/>
          </p:blipFill>
          <p:spPr>
            <a:xfrm>
              <a:off x="7186680" y="609480"/>
              <a:ext cx="6951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308720" y="736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nstanti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Овал 15"/>
          <p:cNvGrpSpPr/>
          <p:nvPr/>
        </p:nvGrpSpPr>
        <p:grpSpPr>
          <a:xfrm>
            <a:off x="7186680" y="2395440"/>
            <a:ext cx="695160" cy="701640"/>
            <a:chOff x="7186680" y="2395440"/>
            <a:chExt cx="695160" cy="701640"/>
          </a:xfrm>
        </p:grpSpPr>
        <p:pic>
          <p:nvPicPr>
            <p:cNvPr id="138" name="Овал 15" descr=""/>
            <p:cNvPicPr/>
            <p:nvPr/>
          </p:nvPicPr>
          <p:blipFill>
            <a:blip r:embed="rId11"/>
            <a:stretch/>
          </p:blipFill>
          <p:spPr>
            <a:xfrm>
              <a:off x="7186680" y="2395440"/>
              <a:ext cx="6951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308720" y="252252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nstantia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Овал 16"/>
          <p:cNvGrpSpPr/>
          <p:nvPr/>
        </p:nvGrpSpPr>
        <p:grpSpPr>
          <a:xfrm>
            <a:off x="7265880" y="4267080"/>
            <a:ext cx="677880" cy="676440"/>
            <a:chOff x="7265880" y="4267080"/>
            <a:chExt cx="677880" cy="676440"/>
          </a:xfrm>
        </p:grpSpPr>
        <p:pic>
          <p:nvPicPr>
            <p:cNvPr id="141" name="Овал 16" descr=""/>
            <p:cNvPicPr/>
            <p:nvPr/>
          </p:nvPicPr>
          <p:blipFill>
            <a:blip r:embed="rId12"/>
            <a:stretch/>
          </p:blipFill>
          <p:spPr>
            <a:xfrm>
              <a:off x="7265880" y="4267080"/>
              <a:ext cx="677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380360" y="4379760"/>
              <a:ext cx="455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nstantia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5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6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7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0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1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857160" y="620640"/>
            <a:ext cx="7431120" cy="5523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928800" y="692280"/>
            <a:ext cx="736740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200px-Coat_of_Arms_of_the_Russian_Federation_2.svg.png"/>
          <p:cNvPicPr/>
          <p:nvPr/>
        </p:nvPicPr>
        <p:blipFill>
          <a:blip r:embed="rId2"/>
          <a:stretch/>
        </p:blipFill>
        <p:spPr>
          <a:xfrm>
            <a:off x="2843280" y="907920"/>
            <a:ext cx="48578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лайд7-гимн.wma" descr=""/>
          <p:cNvPicPr/>
          <p:nvPr/>
        </p:nvPicPr>
        <p:blipFill>
          <a:blip r:embed="rId2"/>
          <a:stretch/>
        </p:blipFill>
        <p:spPr>
          <a:xfrm>
            <a:off x="9715680" y="60008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71720" y="765000"/>
            <a:ext cx="7215120" cy="516420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Гимн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Музыка А. Александрова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Слова С. Михалко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оссия — священная наша держава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оссия — любимая наша стран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Могучая воля, великая слава —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воё достоянье на все времен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лавься, Отечество наше свободное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Братских народов союз вековой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едками данная мудрость народная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лавься, страна! Мы гордимся тобо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гимн России.mp3" descr=""/>
          <p:cNvPicPr/>
          <p:nvPr/>
        </p:nvPicPr>
        <p:blipFill>
          <a:blip r:embed="rId3"/>
          <a:stretch/>
        </p:blipFill>
        <p:spPr>
          <a:xfrm>
            <a:off x="759636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25007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Прямоугольник 1"/>
          <p:cNvGrpSpPr/>
          <p:nvPr/>
        </p:nvGrpSpPr>
        <p:grpSpPr>
          <a:xfrm>
            <a:off x="969840" y="755640"/>
            <a:ext cx="7272360" cy="1304640"/>
            <a:chOff x="969840" y="755640"/>
            <a:chExt cx="7272360" cy="1304640"/>
          </a:xfrm>
        </p:grpSpPr>
        <p:pic>
          <p:nvPicPr>
            <p:cNvPr id="153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969840" y="755640"/>
              <a:ext cx="727236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000080" y="790560"/>
              <a:ext cx="7215120" cy="12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nstantia"/>
                </a:rPr>
                <a:t>Москва – столица России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Рисунок 4" descr="moscow.jpg"/>
          <p:cNvPicPr/>
          <p:nvPr/>
        </p:nvPicPr>
        <p:blipFill>
          <a:blip r:embed="rId3"/>
          <a:stretch/>
        </p:blipFill>
        <p:spPr>
          <a:xfrm>
            <a:off x="3500280" y="2286000"/>
            <a:ext cx="4876920" cy="36338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f_4819b37239abd.jpg"/>
          <p:cNvPicPr/>
          <p:nvPr/>
        </p:nvPicPr>
        <p:blipFill>
          <a:blip r:embed="rId4"/>
          <a:stretch/>
        </p:blipFill>
        <p:spPr>
          <a:xfrm>
            <a:off x="857160" y="2071800"/>
            <a:ext cx="23256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Прямоугольник 1"/>
          <p:cNvGrpSpPr/>
          <p:nvPr/>
        </p:nvGrpSpPr>
        <p:grpSpPr>
          <a:xfrm>
            <a:off x="2987640" y="609480"/>
            <a:ext cx="5321160" cy="874440"/>
            <a:chOff x="2987640" y="609480"/>
            <a:chExt cx="5321160" cy="874440"/>
          </a:xfrm>
        </p:grpSpPr>
        <p:pic>
          <p:nvPicPr>
            <p:cNvPr id="158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987640" y="609480"/>
              <a:ext cx="5321160" cy="87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008520" y="650880"/>
              <a:ext cx="52840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nstantia"/>
                </a:rPr>
                <a:t>Президент страны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Прямоугольник 4"/>
          <p:cNvGrpSpPr/>
          <p:nvPr/>
        </p:nvGrpSpPr>
        <p:grpSpPr>
          <a:xfrm>
            <a:off x="895320" y="5467320"/>
            <a:ext cx="7273800" cy="701640"/>
            <a:chOff x="895320" y="5467320"/>
            <a:chExt cx="7273800" cy="701640"/>
          </a:xfrm>
        </p:grpSpPr>
        <p:pic>
          <p:nvPicPr>
            <p:cNvPr id="161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895320" y="5467320"/>
              <a:ext cx="72738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928800" y="5500800"/>
              <a:ext cx="7215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Путин Владимир Владимирович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3" name="Picture 9" descr=""/>
          <p:cNvPicPr/>
          <p:nvPr/>
        </p:nvPicPr>
        <p:blipFill>
          <a:blip r:embed="rId4"/>
          <a:stretch/>
        </p:blipFill>
        <p:spPr>
          <a:xfrm>
            <a:off x="4067280" y="1557360"/>
            <a:ext cx="28573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8269200" cy="6215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Прямоугольник 1"/>
          <p:cNvGrpSpPr/>
          <p:nvPr/>
        </p:nvGrpSpPr>
        <p:grpSpPr>
          <a:xfrm>
            <a:off x="969840" y="542880"/>
            <a:ext cx="7272360" cy="1054080"/>
            <a:chOff x="969840" y="542880"/>
            <a:chExt cx="7272360" cy="1054080"/>
          </a:xfrm>
        </p:grpSpPr>
        <p:pic>
          <p:nvPicPr>
            <p:cNvPr id="165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969840" y="542880"/>
              <a:ext cx="72723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000080" y="571680"/>
              <a:ext cx="72151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Можно ли обойтись без президента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Прямоугольник 3"/>
          <p:cNvGrpSpPr/>
          <p:nvPr/>
        </p:nvGrpSpPr>
        <p:grpSpPr>
          <a:xfrm>
            <a:off x="969840" y="1682640"/>
            <a:ext cx="7272360" cy="1054080"/>
            <a:chOff x="969840" y="1682640"/>
            <a:chExt cx="7272360" cy="1054080"/>
          </a:xfrm>
        </p:grpSpPr>
        <p:pic>
          <p:nvPicPr>
            <p:cNvPr id="16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969840" y="1682640"/>
              <a:ext cx="72723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000080" y="1714680"/>
              <a:ext cx="72151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Кто может стать президентом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Прямоугольник 4"/>
          <p:cNvGrpSpPr/>
          <p:nvPr/>
        </p:nvGrpSpPr>
        <p:grpSpPr>
          <a:xfrm>
            <a:off x="969840" y="2895480"/>
            <a:ext cx="7272360" cy="1060560"/>
            <a:chOff x="969840" y="2895480"/>
            <a:chExt cx="7272360" cy="1060560"/>
          </a:xfrm>
        </p:grpSpPr>
        <p:pic>
          <p:nvPicPr>
            <p:cNvPr id="171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969840" y="2895480"/>
              <a:ext cx="727236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000080" y="2928960"/>
              <a:ext cx="72151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Может ли стать президентом женщина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Прямоугольник 6"/>
          <p:cNvGrpSpPr/>
          <p:nvPr/>
        </p:nvGrpSpPr>
        <p:grpSpPr>
          <a:xfrm>
            <a:off x="969840" y="4041720"/>
            <a:ext cx="7272360" cy="1054080"/>
            <a:chOff x="969840" y="4041720"/>
            <a:chExt cx="7272360" cy="1054080"/>
          </a:xfrm>
        </p:grpSpPr>
        <p:pic>
          <p:nvPicPr>
            <p:cNvPr id="174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969840" y="4041720"/>
              <a:ext cx="72723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000080" y="4071960"/>
              <a:ext cx="72151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Кто выбирает президента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Прямоугольник 7"/>
          <p:cNvGrpSpPr/>
          <p:nvPr/>
        </p:nvGrpSpPr>
        <p:grpSpPr>
          <a:xfrm>
            <a:off x="969840" y="5254560"/>
            <a:ext cx="7272360" cy="1054080"/>
            <a:chOff x="969840" y="5254560"/>
            <a:chExt cx="7272360" cy="1054080"/>
          </a:xfrm>
        </p:grpSpPr>
        <p:pic>
          <p:nvPicPr>
            <p:cNvPr id="177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969840" y="5254560"/>
              <a:ext cx="72723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000080" y="5286240"/>
              <a:ext cx="721512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nstantia"/>
                </a:rPr>
                <a:t>На какой срок выбирают президента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Прямоугольник 4"/>
          <p:cNvGrpSpPr/>
          <p:nvPr/>
        </p:nvGrpSpPr>
        <p:grpSpPr>
          <a:xfrm>
            <a:off x="969840" y="2481120"/>
            <a:ext cx="7272360" cy="2840040"/>
            <a:chOff x="969840" y="2481120"/>
            <a:chExt cx="7272360" cy="2840040"/>
          </a:xfrm>
        </p:grpSpPr>
        <p:pic>
          <p:nvPicPr>
            <p:cNvPr id="182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969840" y="2481120"/>
              <a:ext cx="727236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001880" y="2513160"/>
              <a:ext cx="721512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1.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Столица России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а) Москв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б) Петербург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в) Киев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Прямоугольник 4"/>
          <p:cNvGrpSpPr/>
          <p:nvPr/>
        </p:nvGrpSpPr>
        <p:grpSpPr>
          <a:xfrm>
            <a:off x="969840" y="2554200"/>
            <a:ext cx="7272360" cy="2840040"/>
            <a:chOff x="969840" y="2554200"/>
            <a:chExt cx="7272360" cy="2840040"/>
          </a:xfrm>
        </p:grpSpPr>
        <p:pic>
          <p:nvPicPr>
            <p:cNvPr id="18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969840" y="2554200"/>
              <a:ext cx="727236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001880" y="2584440"/>
              <a:ext cx="721512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2.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 Как называется жилой дом на Руси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а) Хат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б) Изб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в) Юрт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Прямоугольник 4"/>
          <p:cNvGrpSpPr/>
          <p:nvPr/>
        </p:nvGrpSpPr>
        <p:grpSpPr>
          <a:xfrm>
            <a:off x="969840" y="2554200"/>
            <a:ext cx="7272360" cy="2840040"/>
            <a:chOff x="969840" y="2554200"/>
            <a:chExt cx="7272360" cy="2840040"/>
          </a:xfrm>
        </p:grpSpPr>
        <p:pic>
          <p:nvPicPr>
            <p:cNvPr id="188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969840" y="2554200"/>
              <a:ext cx="727236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001880" y="2584440"/>
              <a:ext cx="721512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3.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 Как называется праздник проводов русской зимы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а) Маслениц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б) Пасх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в) Рождество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Прямоугольник 4"/>
          <p:cNvGrpSpPr/>
          <p:nvPr/>
        </p:nvGrpSpPr>
        <p:grpSpPr>
          <a:xfrm>
            <a:off x="969840" y="2554200"/>
            <a:ext cx="7272360" cy="2840040"/>
            <a:chOff x="969840" y="2554200"/>
            <a:chExt cx="7272360" cy="2840040"/>
          </a:xfrm>
        </p:grpSpPr>
        <p:pic>
          <p:nvPicPr>
            <p:cNvPr id="191" name="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969840" y="2554200"/>
              <a:ext cx="727236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001880" y="2584440"/>
              <a:ext cx="721512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4.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 Предмет одежды русской женщины в старину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а) Хала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б) Сарафан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в) Сапоги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Прямоугольник 4"/>
          <p:cNvGrpSpPr/>
          <p:nvPr/>
        </p:nvGrpSpPr>
        <p:grpSpPr>
          <a:xfrm>
            <a:off x="969840" y="2554200"/>
            <a:ext cx="7272360" cy="2840040"/>
            <a:chOff x="969840" y="2554200"/>
            <a:chExt cx="7272360" cy="2840040"/>
          </a:xfrm>
        </p:grpSpPr>
        <p:pic>
          <p:nvPicPr>
            <p:cNvPr id="194" name="Прямоугольник 4" descr=""/>
            <p:cNvPicPr/>
            <p:nvPr/>
          </p:nvPicPr>
          <p:blipFill>
            <a:blip r:embed="rId6"/>
            <a:stretch/>
          </p:blipFill>
          <p:spPr>
            <a:xfrm>
              <a:off x="969840" y="2554200"/>
              <a:ext cx="727236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001880" y="2584440"/>
              <a:ext cx="721512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.Что такое герб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а) Украшение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б) Вид одежды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в) Символ государства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Прямоугольник 4"/>
          <p:cNvGrpSpPr/>
          <p:nvPr/>
        </p:nvGrpSpPr>
        <p:grpSpPr>
          <a:xfrm>
            <a:off x="969840" y="2554200"/>
            <a:ext cx="7272360" cy="2840040"/>
            <a:chOff x="969840" y="2554200"/>
            <a:chExt cx="7272360" cy="2840040"/>
          </a:xfrm>
        </p:grpSpPr>
        <p:pic>
          <p:nvPicPr>
            <p:cNvPr id="197" name="Прямоугольник 4" descr=""/>
            <p:cNvPicPr/>
            <p:nvPr/>
          </p:nvPicPr>
          <p:blipFill>
            <a:blip r:embed="rId7"/>
            <a:stretch/>
          </p:blipFill>
          <p:spPr>
            <a:xfrm>
              <a:off x="969840" y="2554200"/>
              <a:ext cx="727236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001880" y="2584440"/>
              <a:ext cx="721512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6.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Какие цвета у российского флага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а) Белый, синий, красный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б) Синий, белый, зеленый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в) Белый, синий, белый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Прямоугольник 4"/>
          <p:cNvGrpSpPr/>
          <p:nvPr/>
        </p:nvGrpSpPr>
        <p:grpSpPr>
          <a:xfrm>
            <a:off x="969840" y="2554200"/>
            <a:ext cx="7272360" cy="2840040"/>
            <a:chOff x="969840" y="2554200"/>
            <a:chExt cx="7272360" cy="2840040"/>
          </a:xfrm>
        </p:grpSpPr>
        <p:pic>
          <p:nvPicPr>
            <p:cNvPr id="200" name="Прямоугольник 4" descr=""/>
            <p:cNvPicPr/>
            <p:nvPr/>
          </p:nvPicPr>
          <p:blipFill>
            <a:blip r:embed="rId8"/>
            <a:stretch/>
          </p:blipFill>
          <p:spPr>
            <a:xfrm>
              <a:off x="969840" y="2554200"/>
              <a:ext cx="727236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001880" y="2584440"/>
              <a:ext cx="721512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Какая птица изображена на Государственном гербе России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а) Гриф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б) Ястреб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в) Орёл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Прямоугольник 4"/>
          <p:cNvGrpSpPr/>
          <p:nvPr/>
        </p:nvGrpSpPr>
        <p:grpSpPr>
          <a:xfrm>
            <a:off x="969840" y="2554200"/>
            <a:ext cx="7272360" cy="2840040"/>
            <a:chOff x="969840" y="2554200"/>
            <a:chExt cx="7272360" cy="2840040"/>
          </a:xfrm>
        </p:grpSpPr>
        <p:pic>
          <p:nvPicPr>
            <p:cNvPr id="203" name="Прямоугольник 4" descr=""/>
            <p:cNvPicPr/>
            <p:nvPr/>
          </p:nvPicPr>
          <p:blipFill>
            <a:blip r:embed="rId9"/>
            <a:stretch/>
          </p:blipFill>
          <p:spPr>
            <a:xfrm>
              <a:off x="969840" y="2554200"/>
              <a:ext cx="727236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001880" y="2584440"/>
              <a:ext cx="721512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7.Кто является президентом России?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а) Николя Саркози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б) Владимир Путин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в) 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Михаил Саакашвили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Прямоугольник 1"/>
          <p:cNvGrpSpPr/>
          <p:nvPr/>
        </p:nvGrpSpPr>
        <p:grpSpPr>
          <a:xfrm>
            <a:off x="1042920" y="609480"/>
            <a:ext cx="7265880" cy="701640"/>
            <a:chOff x="1042920" y="609480"/>
            <a:chExt cx="7265880" cy="701640"/>
          </a:xfrm>
        </p:grpSpPr>
        <p:pic>
          <p:nvPicPr>
            <p:cNvPr id="206" name="Прямоугольник 1" descr=""/>
            <p:cNvPicPr/>
            <p:nvPr/>
          </p:nvPicPr>
          <p:blipFill>
            <a:blip r:embed="rId10"/>
            <a:stretch/>
          </p:blipFill>
          <p:spPr>
            <a:xfrm>
              <a:off x="1042920" y="609480"/>
              <a:ext cx="72658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071720" y="642960"/>
              <a:ext cx="7215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Тест «Знаешь ли ты Россию?»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28760" y="1125000"/>
            <a:ext cx="8340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Прямоугольник 1"/>
          <p:cNvGrpSpPr/>
          <p:nvPr/>
        </p:nvGrpSpPr>
        <p:grpSpPr>
          <a:xfrm>
            <a:off x="2889360" y="1773360"/>
            <a:ext cx="1706400" cy="701640"/>
            <a:chOff x="2889360" y="1773360"/>
            <a:chExt cx="1706400" cy="701640"/>
          </a:xfrm>
        </p:grpSpPr>
        <p:pic>
          <p:nvPicPr>
            <p:cNvPr id="211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889360" y="1773360"/>
              <a:ext cx="17064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922480" y="1806480"/>
              <a:ext cx="1646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1-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Прямоугольник 1"/>
          <p:cNvGrpSpPr/>
          <p:nvPr/>
        </p:nvGrpSpPr>
        <p:grpSpPr>
          <a:xfrm>
            <a:off x="2889360" y="2925720"/>
            <a:ext cx="1706400" cy="701640"/>
            <a:chOff x="2889360" y="2925720"/>
            <a:chExt cx="1706400" cy="701640"/>
          </a:xfrm>
        </p:grpSpPr>
        <p:pic>
          <p:nvPicPr>
            <p:cNvPr id="214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2889360" y="2925720"/>
              <a:ext cx="17064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922480" y="2957400"/>
              <a:ext cx="1646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2-б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Прямоугольник 1"/>
          <p:cNvGrpSpPr/>
          <p:nvPr/>
        </p:nvGrpSpPr>
        <p:grpSpPr>
          <a:xfrm>
            <a:off x="2889360" y="4151160"/>
            <a:ext cx="1706400" cy="702000"/>
            <a:chOff x="2889360" y="4151160"/>
            <a:chExt cx="1706400" cy="702000"/>
          </a:xfrm>
        </p:grpSpPr>
        <p:pic>
          <p:nvPicPr>
            <p:cNvPr id="217" name="Прямоугольник 1" descr=""/>
            <p:cNvPicPr/>
            <p:nvPr/>
          </p:nvPicPr>
          <p:blipFill>
            <a:blip r:embed="rId4"/>
            <a:stretch/>
          </p:blipFill>
          <p:spPr>
            <a:xfrm>
              <a:off x="2889360" y="4151160"/>
              <a:ext cx="170640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922480" y="4183200"/>
              <a:ext cx="1646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3-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Прямоугольник 1"/>
          <p:cNvGrpSpPr/>
          <p:nvPr/>
        </p:nvGrpSpPr>
        <p:grpSpPr>
          <a:xfrm>
            <a:off x="2889360" y="5157720"/>
            <a:ext cx="1706400" cy="700200"/>
            <a:chOff x="2889360" y="5157720"/>
            <a:chExt cx="1706400" cy="700200"/>
          </a:xfrm>
        </p:grpSpPr>
        <p:pic>
          <p:nvPicPr>
            <p:cNvPr id="220" name="Прямоугольник 1" descr=""/>
            <p:cNvPicPr/>
            <p:nvPr/>
          </p:nvPicPr>
          <p:blipFill>
            <a:blip r:embed="rId5"/>
            <a:stretch/>
          </p:blipFill>
          <p:spPr>
            <a:xfrm>
              <a:off x="2889360" y="5157720"/>
              <a:ext cx="170640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922480" y="5191200"/>
              <a:ext cx="1646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4-б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Прямоугольник 1"/>
          <p:cNvGrpSpPr/>
          <p:nvPr/>
        </p:nvGrpSpPr>
        <p:grpSpPr>
          <a:xfrm>
            <a:off x="6132600" y="1773360"/>
            <a:ext cx="1700280" cy="701640"/>
            <a:chOff x="6132600" y="1773360"/>
            <a:chExt cx="1700280" cy="701640"/>
          </a:xfrm>
        </p:grpSpPr>
        <p:pic>
          <p:nvPicPr>
            <p:cNvPr id="223" name="Прямоугольник 1" descr=""/>
            <p:cNvPicPr/>
            <p:nvPr/>
          </p:nvPicPr>
          <p:blipFill>
            <a:blip r:embed="rId6"/>
            <a:stretch/>
          </p:blipFill>
          <p:spPr>
            <a:xfrm>
              <a:off x="6132600" y="1773360"/>
              <a:ext cx="17002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162840" y="1806480"/>
              <a:ext cx="1645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5-в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Прямоугольник 1"/>
          <p:cNvGrpSpPr/>
          <p:nvPr/>
        </p:nvGrpSpPr>
        <p:grpSpPr>
          <a:xfrm>
            <a:off x="6132600" y="2852640"/>
            <a:ext cx="1700280" cy="701640"/>
            <a:chOff x="6132600" y="2852640"/>
            <a:chExt cx="1700280" cy="701640"/>
          </a:xfrm>
        </p:grpSpPr>
        <p:pic>
          <p:nvPicPr>
            <p:cNvPr id="226" name="Прямоугольник 1" descr=""/>
            <p:cNvPicPr/>
            <p:nvPr/>
          </p:nvPicPr>
          <p:blipFill>
            <a:blip r:embed="rId7"/>
            <a:stretch/>
          </p:blipFill>
          <p:spPr>
            <a:xfrm>
              <a:off x="6132600" y="2852640"/>
              <a:ext cx="17002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62840" y="2886120"/>
              <a:ext cx="1645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6-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Прямоугольник 1"/>
          <p:cNvGrpSpPr/>
          <p:nvPr/>
        </p:nvGrpSpPr>
        <p:grpSpPr>
          <a:xfrm>
            <a:off x="6132600" y="4078440"/>
            <a:ext cx="1700280" cy="701640"/>
            <a:chOff x="6132600" y="4078440"/>
            <a:chExt cx="1700280" cy="701640"/>
          </a:xfrm>
        </p:grpSpPr>
        <p:pic>
          <p:nvPicPr>
            <p:cNvPr id="229" name="Прямоугольник 1" descr=""/>
            <p:cNvPicPr/>
            <p:nvPr/>
          </p:nvPicPr>
          <p:blipFill>
            <a:blip r:embed="rId8"/>
            <a:stretch/>
          </p:blipFill>
          <p:spPr>
            <a:xfrm>
              <a:off x="6132600" y="4078440"/>
              <a:ext cx="17002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162840" y="4110120"/>
              <a:ext cx="1645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7-в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Прямоугольник 1"/>
          <p:cNvGrpSpPr/>
          <p:nvPr/>
        </p:nvGrpSpPr>
        <p:grpSpPr>
          <a:xfrm>
            <a:off x="6132600" y="5157720"/>
            <a:ext cx="1700280" cy="700200"/>
            <a:chOff x="6132600" y="5157720"/>
            <a:chExt cx="1700280" cy="700200"/>
          </a:xfrm>
        </p:grpSpPr>
        <p:pic>
          <p:nvPicPr>
            <p:cNvPr id="232" name="Прямоугольник 1" descr=""/>
            <p:cNvPicPr/>
            <p:nvPr/>
          </p:nvPicPr>
          <p:blipFill>
            <a:blip r:embed="rId9"/>
            <a:stretch/>
          </p:blipFill>
          <p:spPr>
            <a:xfrm>
              <a:off x="6132600" y="5157720"/>
              <a:ext cx="17002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162840" y="5191200"/>
              <a:ext cx="1645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</a:rPr>
                <a:t>8-б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785880" y="642960"/>
            <a:ext cx="76262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05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70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476360" y="1412640"/>
            <a:ext cx="698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edsovet.s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load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321-1-0-3464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шаблон для презент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bestmaps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plac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moscow-kreml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ремл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tur-otdyh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wp-content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upload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/2012/06/priroda1_4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www.sibparus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8"/>
              </a:rPr>
              <a:t>image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9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0"/>
              </a:rPr>
              <a:t>flower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1"/>
              </a:rPr>
              <a:t>/IMGP2242_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, лу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3"/>
              </a:rPr>
              <a:t>://img-2005-02.photosight.ru/10/75745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 солнц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6"/>
              </a:rPr>
              <a:t>www.sibparus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8"/>
              </a:rPr>
              <a:t>image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9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0"/>
              </a:rPr>
              <a:t>Photo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1"/>
              </a:rPr>
              <a:t>/IMGP2196_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, раду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4"/>
              </a:rPr>
              <a:t>www.sibparus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5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6"/>
              </a:rPr>
              <a:t>image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8"/>
              </a:rPr>
              <a:t>Photo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9"/>
              </a:rPr>
              <a:t>/IMGP2068_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, ноч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0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1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2"/>
              </a:rPr>
              <a:t>fotkidepo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3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4"/>
              </a:rPr>
              <a:t>photo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5"/>
              </a:rPr>
              <a:t>/476432/11772nDanwQvlHo/SPUPcXUW5N/20237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, гриб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7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8"/>
              </a:rPr>
              <a:t>oformi.net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9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0"/>
              </a:rPr>
              <a:t>gallery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1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2"/>
              </a:rPr>
              <a:t>priroda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3"/>
              </a:rPr>
              <a:t>/27685-priroda-rossii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ии, по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6"/>
              </a:rPr>
              <a:t>nnm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8"/>
              </a:rPr>
              <a:t>blog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9"/>
              </a:rPr>
              <a:t>/rusol83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0"/>
              </a:rPr>
              <a:t>dikaya_priroda_rossii_3_serii_iz_6_national_geographic_wild_russia_2009_hdtvrip_720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1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, цве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3"/>
              </a:rPr>
              <a:t>://img0.liveinternet.ru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4"/>
              </a:rPr>
              <a:t>image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5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6"/>
              </a:rPr>
              <a:t>attach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7"/>
              </a:rPr>
              <a:t>/c/1/59/104/59104168_1274008069_21628736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природа России, ле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8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9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0"/>
              </a:rPr>
              <a:t>nnm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1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2"/>
              </a:rPr>
              <a:t>blog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3"/>
              </a:rPr>
              <a:t>/5erg/dikaya_priroda_rossii_wild_russia_2009_hdtvrip_720p_2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ии, живот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6"/>
              </a:rPr>
              <a:t>www.photohost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8"/>
              </a:rPr>
              <a:t>picture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9"/>
              </a:rPr>
              <a:t>/4628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,дожд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90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91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92"/>
              </a:rPr>
              <a:t>ponimai.s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93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94"/>
              </a:rPr>
              <a:t>cmspage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95"/>
              </a:rPr>
              <a:t>/2023/-----------прир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ссии, тунд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96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97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98"/>
              </a:rPr>
              <a:t>www.smileplanet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99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00"/>
              </a:rPr>
              <a:t>photo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01"/>
              </a:rPr>
              <a:t>/690-0-10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рирода России, подсолнух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02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03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04"/>
              </a:rPr>
              <a:t>www.smileplanet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05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06"/>
              </a:rPr>
              <a:t>photo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07"/>
              </a:rPr>
              <a:t>/690-0-9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рирода России, ле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916000" y="274680"/>
            <a:ext cx="5770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mileplanet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hoto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/690-0-10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, ре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smileplanet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photo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/690-0-1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, го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www.photohost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picture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/46280.jpg-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России,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жд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www.smileplanet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photo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/690-0-9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, го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7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8"/>
              </a:rPr>
              <a:t>www.smileplanet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9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0"/>
              </a:rPr>
              <a:t>photo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1"/>
              </a:rPr>
              <a:t>/690-0-95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, мо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4"/>
              </a:rPr>
              <a:t>gruzdyashkin.do.a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5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6"/>
              </a:rPr>
              <a:t>index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8"/>
              </a:rPr>
              <a:t>priroda_rossii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9"/>
              </a:rPr>
              <a:t>/0-2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рирода России, ле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0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1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2"/>
              </a:rPr>
              <a:t>travelel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3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4"/>
              </a:rPr>
              <a:t>pokazat-kartu-ross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арта Ро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5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6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7"/>
              </a:rPr>
              <a:t>www.tuva.asia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8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9"/>
              </a:rPr>
              <a:t>upload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0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1"/>
              </a:rPr>
              <a:t>post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2"/>
              </a:rPr>
              <a:t>/2009-09/1254335473_tatar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ата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3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4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5"/>
              </a:rPr>
              <a:t>www.muslims-volga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6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7"/>
              </a:rPr>
              <a:t>_data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8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9"/>
              </a:rPr>
              <a:t>object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0"/>
              </a:rPr>
              <a:t>/00318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1"/>
              </a:rPr>
              <a:t>icon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ашки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4"/>
              </a:rPr>
              <a:t>moscow-music.narod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5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6"/>
              </a:rPr>
              <a:t>image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8"/>
              </a:rPr>
              <a:t>narodniki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9"/>
              </a:rPr>
              <a:t>/25b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усск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0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1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2"/>
              </a:rPr>
              <a:t>tyumen.rfn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3"/>
              </a:rPr>
              <a:t>/p/m_207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роды сев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t3.gstatic.com/images?q=tbn:ANd9GcQvxQk_fJ3FBu1pow_nDBStOdHq4iAumnz P_6Cb1O0rjY3zHPo5rZlgm9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ружба наро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nstarikov.ru/blog/17099 - карта для раскраши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www.constitution.ru/symbols/flag.htm - флаг Ро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ru.wikipedia.org/wiki/Герб_России - герб Ро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www.biancoloto.com/kreml/kreml.html -Моск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форум-имиджмейкеров.рф/member1-albums14-1567.html - Путин В. 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joyreactor.cc/post/571878 - вой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IMG_0256.jpg"/>
          <p:cNvPicPr/>
          <p:nvPr/>
        </p:nvPicPr>
        <p:blipFill>
          <a:blip r:embed="rId2"/>
          <a:stretch/>
        </p:blipFill>
        <p:spPr>
          <a:xfrm>
            <a:off x="250920" y="189000"/>
            <a:ext cx="8604000" cy="644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28760" y="428760"/>
            <a:ext cx="8570880" cy="61434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757450.jpg"/>
          <p:cNvPicPr/>
          <p:nvPr/>
        </p:nvPicPr>
        <p:blipFill>
          <a:blip r:embed="rId2"/>
          <a:stretch/>
        </p:blipFill>
        <p:spPr>
          <a:xfrm>
            <a:off x="25092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8721720" cy="6213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28760" y="357120"/>
            <a:ext cx="8285040" cy="622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7:46:51Z</dcterms:created>
  <dc:creator>Admin</dc:creator>
  <dc:description/>
  <dc:language>en-US</dc:language>
  <cp:lastModifiedBy>User</cp:lastModifiedBy>
  <dcterms:modified xsi:type="dcterms:W3CDTF">2013-02-14T13:24:47Z</dcterms:modified>
  <cp:revision>44</cp:revision>
  <dc:subject/>
  <dc:title>Слайд 1</dc:title>
</cp:coreProperties>
</file>