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ABE9-4F8F-4D85-A871-EA25892C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43C-0ADA-4F26-B914-EDC6D38B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024-9C62-4547-ABC5-C0267D72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8354-5156-4F9B-8657-6C86730B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D689-D59D-4EC5-AB87-6AA75585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9485-53E1-436D-BA83-436BC96C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92D6-E4E9-47B0-8CAA-E27018A0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BEDE-416F-45E1-AFF4-791BEEB8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C7A1-0640-45CA-88AB-5570AF86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A842-3A83-4699-8241-00D72A5E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57D3-1F29-4B32-8D75-6ADC2662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07F-3B7C-4E9A-861D-BCA22879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6609-C3E4-4502-B2D1-18356426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6BF3-F28F-41ED-A778-5FC64438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03EB-F17C-40D5-A61F-116A818E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E6EE-6607-4A3C-BF6A-4F118C23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232C-FDC3-4698-A7D2-7EB8AE42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EFDFD-E985-4B85-B3FC-206FD6AE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C2772-BEA4-4D9B-85EC-916F6DD9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681073-9332-42D8-8CC5-4659225A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3E60B-7F45-484C-AC01-DD63C6F6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AF0D6-6038-467B-B69D-1590F6C6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8554-9DD5-40EA-AF87-751D1239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8030E-17E7-4D2F-A84F-AD5E8500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9878C-D1D7-4C7C-91B1-1C6A1411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C95DD-278B-41E6-8328-CF3CBE4F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201962-5A40-4B75-922D-1EAB7A99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56DA5-0F92-4C05-93EB-6A5D55F3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51A8D-98E5-4346-BCD2-D774709A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CA7AD-7E76-4C48-A19B-537282A5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2CA64-9A53-46AB-8771-90AD77B7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703D1-856B-46B9-A74C-6C6630D1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26761-6FC4-42CA-917C-4454FBB7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821-A15E-4827-B088-D5803C86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E3DC0-D81B-4BDF-B14B-E12D5F56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9118D-593F-4D21-BB39-19C1BDA9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387AC-9F0D-4822-A706-CF6A53FC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56C34-E3FD-4896-9844-638984F0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083FA-CD8F-4E2E-AE3A-E764D09C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8CFC9-BB02-4ADC-84B8-335FC59B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3DC45-D74F-4785-A6B5-B38D115A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ED1E9-41CC-4960-9EB1-8F8BCD75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330A8-E02B-46CA-8735-E807170E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C0586E-1F49-4CC2-BC46-2152B481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804-A78D-4D6A-8480-8126590D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BB0EB1-6E30-4E55-8F06-325B3DE8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0832CF-2527-46B7-9331-690AC4FB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6ED6A-D288-4B31-AEAF-89CA5918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25246-747F-41F4-AAD2-7BF928BF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51BE0A-DF35-4832-BB2B-0C28B4EF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4F7BA-0748-4E1D-8377-4F24B70B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3D44F-EEF4-4093-BC8D-5690ABB5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F895E-0976-4D91-9114-8E280618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2425C1-6D3D-436C-821C-C7C3F976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6D2379-4D0C-4356-9679-9938BE62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6FB4-07C3-4C57-BA6B-E211B4F8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0F288-18AA-43F2-8D4C-B56AF5C1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36B573-8945-4541-9A9E-D1A3E57D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E2415D-0259-4959-BC03-2403FFD3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A4C87-5646-4683-87BD-9EB84B20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C7941-3334-4584-9792-9B5C2689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B9B8E9-5F2A-4614-B202-E5C904B9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2674D7-6EF3-48C4-AA3B-0ED7404C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D60542-1DAF-4FED-B263-4E5E1609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7B4D35-76DD-4CD3-AF5B-3535D295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DE653-54EF-4A0D-9DDA-21B005FE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971-3C3F-4EA4-BAC8-9CAED600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588780-C138-4971-8236-E0A9CDD6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FE1714-5602-4E0F-A2E7-94B85851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2E20B7-9C58-4A2C-8749-D6349B33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991171-056A-42D5-ADA4-10D451A9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90A7B3-FB8A-4554-AC06-F1223DA6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BA13CA-7AA0-4E76-B452-CCEF77CD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BD586A-2D33-4080-9481-6977165F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C4113F-6B97-4570-94AC-C5D997C7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227255-402A-49E3-B9EA-E61C43D3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5B7EA3-F1ED-4E8D-AE42-D07B4063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232-AA19-4156-8172-FF8B666B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0D7CF9-C954-4050-8192-B4C5C01F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6E474C-9E70-4E5D-BA1B-59C1C3EF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1C3D36-9729-40D6-8D2C-93F67E0F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69BD6-6C58-4AFC-9539-E0E9C7B0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EC1916-F24F-4252-B7EC-6D68D9CD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995-4ECB-4C17-9A94-9380C15C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7405-E15C-4617-87C3-2D3ABE1ED22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778D-95D7-4987-BDEF-C37A8FAD2C0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4A00-D4E9-42D6-830A-ED3F9AC11CA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E714-835C-413E-9037-5896F115106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EA7F-10B6-4439-93D9-0494F90283E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33FA-3C7E-4134-8E4B-EB49FDF8220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3346-4999-4891-81FA-8E52069CB58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4" descr=" Игрушка, Мастер-класс Оригами модульное: Клубника из модулей Бумага Новый год"/>
          <p:cNvPicPr/>
          <p:nvPr/>
        </p:nvPicPr>
        <p:blipFill>
          <a:blip r:embed="rId1"/>
          <a:stretch/>
        </p:blipFill>
        <p:spPr>
          <a:xfrm>
            <a:off x="3714840" y="1857240"/>
            <a:ext cx="3143160" cy="27212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928600" y="785520"/>
            <a:ext cx="4714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8637"/>
                </a:solidFill>
                <a:latin typeface="Century Schoolbook"/>
              </a:rPr>
              <a:t>ТРЕУГОЛЬНЫЙ МОДУЛ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35728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8637"/>
                </a:solidFill>
                <a:latin typeface="Century Schoolbook"/>
              </a:rPr>
              <a:t>Презентацию для занятий кружка «Художественное творчество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8637"/>
                </a:solidFill>
                <a:latin typeface="Century Schoolbook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8637"/>
                </a:solidFill>
                <a:latin typeface="Century Schoolbook"/>
              </a:rPr>
              <a:t>Учитель начальных классов Веденеева О. 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9720" y="8568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0" lang="ru-RU" sz="2400" spc="-1" strike="noStrike">
                <a:solidFill>
                  <a:srgbClr val="6e84b4"/>
                </a:solidFill>
                <a:latin typeface="Century Schoolbook"/>
              </a:rPr>
              <a:t>8. СНОВА СЛОЖИ МАЛЕНЬКИЕ ТРЕУГОЛЬНИКИ ПО НАМЕЧЕННЫМ ЛИНИЯМ И ПОДНИМИ КРАЯ ВВЕРХ.</a:t>
            </a:r>
            <a:br>
              <a:rPr sz="27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Содержимое 3" descr="http://stranamasterov.ru/files/imagecache/orig_with_logo2/images/techno/paper/module/PICT8987.jpg"/>
          <p:cNvPicPr/>
          <p:nvPr/>
        </p:nvPicPr>
        <p:blipFill>
          <a:blip r:embed="rId1"/>
          <a:stretch/>
        </p:blipFill>
        <p:spPr>
          <a:xfrm>
            <a:off x="1571760" y="2071800"/>
            <a:ext cx="592920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84b4"/>
                </a:solidFill>
                <a:latin typeface="Century Schoolbook"/>
              </a:rPr>
              <a:t>9. СОГНИ ПОПОЛАМ.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Содержимое 3" descr="http://stranamasterov.ru/files/imagecache/orig_with_logo2/images/techno/paper/module/PICT8988.jpg"/>
          <p:cNvPicPr/>
          <p:nvPr/>
        </p:nvPicPr>
        <p:blipFill>
          <a:blip r:embed="rId1"/>
          <a:stretch/>
        </p:blipFill>
        <p:spPr>
          <a:xfrm>
            <a:off x="1500120" y="2000160"/>
            <a:ext cx="5929560" cy="3643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84b4"/>
                </a:solidFill>
                <a:latin typeface="Century Schoolbook"/>
              </a:rPr>
              <a:t>ПОЛУЧИВШИЙСЯ МОДУЛЬ ИМЕЕТ ДВА УГОЛКА И ДВА КАРМАШКА.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Содержимое 3" descr="http://stranamasterov.ru/files/imagecache/orig_with_logo2/images/techno/paper/module/PICT8992.jpg"/>
          <p:cNvPicPr/>
          <p:nvPr/>
        </p:nvPicPr>
        <p:blipFill>
          <a:blip r:embed="rId1"/>
          <a:stretch/>
        </p:blipFill>
        <p:spPr>
          <a:xfrm>
            <a:off x="1000080" y="1571760"/>
            <a:ext cx="728676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8637"/>
                </a:solidFill>
                <a:latin typeface="Century Schoolbook"/>
              </a:rPr>
              <a:t>КАК СОЕДИНЯТЬ МОДУЛИ МЕЖДУ СОБОЙ 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Содержимое 3" descr="http://stranamasterov.ru/files/imagecache/orig_with_logo2/images/techno/paper/module/PICT8998.jpg"/>
          <p:cNvPicPr/>
          <p:nvPr/>
        </p:nvPicPr>
        <p:blipFill>
          <a:blip r:embed="rId1"/>
          <a:stretch/>
        </p:blipFill>
        <p:spPr>
          <a:xfrm>
            <a:off x="1500120" y="1500120"/>
            <a:ext cx="5643720" cy="471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71840" y="1000080"/>
            <a:ext cx="52149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39d"/>
                </a:solidFill>
                <a:latin typeface="Century Schoolbook"/>
              </a:rPr>
              <a:t>ИСПОЛЬЗУЕМАЯ ЛИТЕРАТУРА:</a:t>
            </a:r>
            <a:br>
              <a:rPr sz="2700"/>
            </a:br>
            <a:br>
              <a:rPr sz="2700"/>
            </a:br>
            <a:endParaRPr b="0" lang="en-US" sz="22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84" name="Прямоугольник 3"/>
          <p:cNvSpPr/>
          <p:nvPr/>
        </p:nvSpPr>
        <p:spPr>
          <a:xfrm>
            <a:off x="2214720" y="1428840"/>
            <a:ext cx="6429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e63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636"/>
                </a:solidFill>
                <a:latin typeface="Arial"/>
              </a:rPr>
              <a:t>Федеральный научно-методический центр им. Л. В. Занков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636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e636"/>
                </a:solidFill>
                <a:latin typeface="Arial"/>
              </a:rPr>
              <a:t>Дидактический интернет-сайт «Страна Мастер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636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e636"/>
                </a:solidFill>
                <a:latin typeface="Arial"/>
              </a:rPr>
              <a:t>http://stranamasterov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636"/>
                </a:solidFill>
                <a:latin typeface="Arial"/>
              </a:rPr>
              <a:t>2.   Иллюстрации с сайта  Страна Мастеров http://stranamasterov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636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e636"/>
                </a:solidFill>
                <a:latin typeface="Arial"/>
              </a:rPr>
              <a:t>Блог Татьяны Просняковой (автор учебно-методического комплекта «Технология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1" descr="p1020549.jpg"/>
          <p:cNvPicPr/>
          <p:nvPr/>
        </p:nvPicPr>
        <p:blipFill>
          <a:blip r:embed="rId1"/>
          <a:stretch/>
        </p:blipFill>
        <p:spPr>
          <a:xfrm>
            <a:off x="428760" y="571680"/>
            <a:ext cx="7572240" cy="567828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1" descr="PICT0412.jpg"/>
          <p:cNvPicPr/>
          <p:nvPr/>
        </p:nvPicPr>
        <p:blipFill>
          <a:blip r:embed="rId2"/>
          <a:stretch/>
        </p:blipFill>
        <p:spPr>
          <a:xfrm>
            <a:off x="1928880" y="214200"/>
            <a:ext cx="4871880" cy="641052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1" descr="PICT2288-2.jpg"/>
          <p:cNvPicPr/>
          <p:nvPr/>
        </p:nvPicPr>
        <p:blipFill>
          <a:blip r:embed="rId3"/>
          <a:stretch/>
        </p:blipFill>
        <p:spPr>
          <a:xfrm>
            <a:off x="2214720" y="357120"/>
            <a:ext cx="4435200" cy="621504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1" descr="PICT6191.jpg"/>
          <p:cNvPicPr/>
          <p:nvPr/>
        </p:nvPicPr>
        <p:blipFill>
          <a:blip r:embed="rId4"/>
          <a:stretch/>
        </p:blipFill>
        <p:spPr>
          <a:xfrm>
            <a:off x="2286000" y="0"/>
            <a:ext cx="4044960" cy="657216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1" descr="dsc01215_0.jpg"/>
          <p:cNvPicPr/>
          <p:nvPr/>
        </p:nvPicPr>
        <p:blipFill>
          <a:blip r:embed="rId5"/>
          <a:stretch/>
        </p:blipFill>
        <p:spPr>
          <a:xfrm>
            <a:off x="428760" y="214200"/>
            <a:ext cx="7407000" cy="641052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1" descr="s8300352.jpg"/>
          <p:cNvPicPr/>
          <p:nvPr/>
        </p:nvPicPr>
        <p:blipFill>
          <a:blip r:embed="rId6"/>
          <a:stretch/>
        </p:blipFill>
        <p:spPr>
          <a:xfrm>
            <a:off x="357120" y="268200"/>
            <a:ext cx="7643880" cy="6161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68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e84b4"/>
                </a:solidFill>
                <a:latin typeface="Century Schoolbook"/>
              </a:rPr>
              <a:t>ХОД РАБОТЫ</a:t>
            </a:r>
            <a:br>
              <a:rPr sz="2200"/>
            </a:br>
            <a:br>
              <a:rPr sz="2200"/>
            </a:br>
            <a:r>
              <a:rPr b="0" lang="ru-RU" sz="2400" spc="-1" strike="noStrike">
                <a:solidFill>
                  <a:srgbClr val="6e84b4"/>
                </a:solidFill>
                <a:latin typeface="Century Schoolbook"/>
              </a:rPr>
              <a:t>1. СОГНИ ПРЯМОУГОЛЬНИК ПОПОЛАМ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Содержимое 3" descr="http://stranamasterov.ru/files/imagecache/orig_with_logo2/images/techno/paper/module/PICT8977.jpg"/>
          <p:cNvPicPr/>
          <p:nvPr/>
        </p:nvPicPr>
        <p:blipFill>
          <a:blip r:embed="rId1"/>
          <a:stretch/>
        </p:blipFill>
        <p:spPr>
          <a:xfrm>
            <a:off x="2286000" y="2751120"/>
            <a:ext cx="3809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004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84b4"/>
                </a:solidFill>
                <a:latin typeface="Century Schoolbook"/>
              </a:rPr>
              <a:t>2. СОГНИ И РАЗОГНИ, ЧТОБЫ НАМЕТИТЬ ЛИНИЮ СЕРЕДИНЫ. ПОВЕРНИ ГОРОЙ К СЕБЕ.</a:t>
            </a:r>
            <a:br>
              <a:rPr sz="27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Содержимое 3" descr="http://stranamasterov.ru/files/imagecache/orig_with_logo2/images/techno/paper/module/PICT8978.jpg"/>
          <p:cNvPicPr/>
          <p:nvPr/>
        </p:nvPicPr>
        <p:blipFill>
          <a:blip r:embed="rId1"/>
          <a:stretch/>
        </p:blipFill>
        <p:spPr>
          <a:xfrm>
            <a:off x="1500120" y="2500200"/>
            <a:ext cx="607212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Содержимое 3" descr="http://stranamasterov.ru/files/imagecache/orig_with_logo2/images/techno/paper/module/PICT8979.jpg"/>
          <p:cNvPicPr/>
          <p:nvPr/>
        </p:nvPicPr>
        <p:blipFill>
          <a:blip r:embed="rId1"/>
          <a:stretch/>
        </p:blipFill>
        <p:spPr>
          <a:xfrm>
            <a:off x="1071720" y="1285920"/>
            <a:ext cx="6929280" cy="5572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84b4"/>
                </a:solidFill>
                <a:latin typeface="Century Schoolbook"/>
              </a:rPr>
              <a:t>3.СОГНИ КРАЯ К СЕРЕДИНЕ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84b4"/>
                </a:solidFill>
                <a:latin typeface="Century Schoolbook"/>
              </a:rPr>
              <a:t>4. ПЕРЕВЕРНИ.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Содержимое 3" descr="http://stranamasterov.ru/files/imagecache/orig_with_logo2/images/techno/paper/module/PICT8980.jpg"/>
          <p:cNvPicPr/>
          <p:nvPr/>
        </p:nvPicPr>
        <p:blipFill>
          <a:blip r:embed="rId1"/>
          <a:stretch/>
        </p:blipFill>
        <p:spPr>
          <a:xfrm>
            <a:off x="1214280" y="1643040"/>
            <a:ext cx="6500880" cy="5000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84b4"/>
                </a:solidFill>
                <a:latin typeface="Century Schoolbook"/>
              </a:rPr>
              <a:t>5. ПОДНИМИ КРАЯ ВВЕРХ.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Содержимое 3" descr="http://stranamasterov.ru/files/imagecache/orig_with_logo2/images/techno/paper/module/PICT8981.jpg"/>
          <p:cNvPicPr/>
          <p:nvPr/>
        </p:nvPicPr>
        <p:blipFill>
          <a:blip r:embed="rId1"/>
          <a:stretch/>
        </p:blipFill>
        <p:spPr>
          <a:xfrm>
            <a:off x="1857240" y="1571760"/>
            <a:ext cx="5572440" cy="500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84b4"/>
                </a:solidFill>
                <a:latin typeface="Century Schoolbook"/>
              </a:rPr>
              <a:t>6. ЗАГНИ УГОЛКИ, ПЕРЕГИБАЯ ИХ ЧЕРЕЗ БОЛЬШОЙ ТРЕУГОЛЬНИК.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Содержимое 3" descr="http://stranamasterov.ru/files/imagecache/orig_with_logo2/images/techno/paper/module/PICT8982.jpg"/>
          <p:cNvPicPr/>
          <p:nvPr/>
        </p:nvPicPr>
        <p:blipFill>
          <a:blip r:embed="rId1"/>
          <a:stretch/>
        </p:blipFill>
        <p:spPr>
          <a:xfrm>
            <a:off x="1500120" y="1785960"/>
            <a:ext cx="607212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84b4"/>
                </a:solidFill>
                <a:latin typeface="Century Schoolbook"/>
              </a:rPr>
              <a:t>7.РАЗОГНИ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Содержимое 3" descr="http://stranamasterov.ru/files/imagecache/orig_with_logo2/images/techno/paper/module/PICT8984.jpg"/>
          <p:cNvPicPr/>
          <p:nvPr/>
        </p:nvPicPr>
        <p:blipFill>
          <a:blip r:embed="rId1"/>
          <a:stretch/>
        </p:blipFill>
        <p:spPr>
          <a:xfrm>
            <a:off x="1857240" y="1857240"/>
            <a:ext cx="5072040" cy="5000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0-03T19:34:14Z</dcterms:modified>
  <cp:revision>14</cp:revision>
  <dc:subject/>
  <dc:title>Треугольный модуль</dc:title>
</cp:coreProperties>
</file>